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2.png" ContentType="image/png"/>
  <Override PartName="/ppt/media/image50.jpeg" ContentType="image/jpeg"/>
  <Override PartName="/ppt/media/image56.wmf" ContentType="image/x-wmf"/>
  <Override PartName="/ppt/media/image37.wmf" ContentType="image/x-wmf"/>
  <Override PartName="/ppt/media/image3.png" ContentType="image/png"/>
  <Override PartName="/ppt/media/image36.wmf" ContentType="image/x-wmf"/>
  <Override PartName="/ppt/media/image47.jpeg" ContentType="image/jpeg"/>
  <Override PartName="/ppt/media/image25.wmf" ContentType="image/x-wmf"/>
  <Override PartName="/ppt/media/image14.wmf" ContentType="image/x-wmf"/>
  <Override PartName="/ppt/media/image57.png" ContentType="image/png"/>
  <Override PartName="/ppt/media/image6.wmf" ContentType="image/x-wmf"/>
  <Override PartName="/ppt/media/image18.wmf" ContentType="image/x-wmf"/>
  <Override PartName="/ppt/media/image11.wmf" ContentType="image/x-wmf"/>
  <Override PartName="/ppt/media/image54.png" ContentType="image/png"/>
  <Override PartName="/ppt/media/image29.wmf" ContentType="image/x-wmf"/>
  <Override PartName="/ppt/media/image63.jpeg" ContentType="image/jpeg"/>
  <Override PartName="/ppt/media/image60.png" ContentType="image/png"/>
  <Override PartName="/ppt/media/image21.wmf" ContentType="image/x-wmf"/>
  <Override PartName="/ppt/media/image2.png" ContentType="image/png"/>
  <Override PartName="/ppt/media/image62.png" ContentType="image/png"/>
  <Override PartName="/ppt/media/image23.wmf" ContentType="image/x-wmf"/>
  <Override PartName="/ppt/media/image51.jpeg" ContentType="image/jpeg"/>
  <Override PartName="/ppt/media/image26.wmf" ContentType="image/x-wmf"/>
  <Override PartName="/ppt/media/image24.wmf" ContentType="image/x-wmf"/>
  <Override PartName="/ppt/media/image28.wmf" ContentType="image/x-wmf"/>
  <Override PartName="/ppt/media/image27.wmf" ContentType="image/x-wmf"/>
  <Override PartName="/ppt/media/image15.wmf" ContentType="image/x-wmf"/>
  <Override PartName="/ppt/media/image46.jpeg" ContentType="image/jpeg"/>
  <Override PartName="/ppt/media/image58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22.wmf" ContentType="image/x-wmf"/>
  <Override PartName="/ppt/media/image16.wmf" ContentType="image/x-wmf"/>
  <Override PartName="/ppt/media/image41.wmf" ContentType="image/x-wmf"/>
  <Override PartName="/ppt/media/image4.png" ContentType="image/png"/>
  <Override PartName="/ppt/media/image12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17.png" ContentType="image/png"/>
  <Override PartName="/ppt/media/image5.png" ContentType="image/png"/>
  <Override PartName="/ppt/media/image10.jpeg" ContentType="image/jpeg"/>
  <Override PartName="/ppt/media/image30.wmf" ContentType="image/x-wmf"/>
  <Override PartName="/ppt/media/image38.wmf" ContentType="image/x-wmf"/>
  <Override PartName="/ppt/media/image61.jpeg" ContentType="image/jpe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9.wmf" ContentType="image/x-wmf"/>
  <Override PartName="/ppt/media/image59.jpeg" ContentType="image/jpeg"/>
  <Override PartName="/ppt/media/image40.wmf" ContentType="image/x-wmf"/>
  <Override PartName="/ppt/media/image9.png" ContentType="image/png"/>
  <Override PartName="/ppt/media/image43.wmf" ContentType="image/x-wmf"/>
  <Override PartName="/ppt/media/image44.jpeg" ContentType="image/jpeg"/>
  <Override PartName="/ppt/media/image45.png" ContentType="image/png"/>
  <Override PartName="/ppt/media/image48.png" ContentType="image/png"/>
  <Override PartName="/ppt/media/image4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03C-5738-44D9-BB7B-701B0064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065-1150-49AB-ADE3-D948889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863-2363-4FD1-964A-2C8DD6F1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7E-30AD-40C6-96F4-B3696909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248-7590-4C66-9158-06F6ABC8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996-51B5-4978-AEDA-0570B86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7F8-D83F-472C-A0C9-CAFE0610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116-C87F-4C78-818F-909BFDB4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692-0F7F-4B62-8B4D-CCCFE469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C0B-777D-4C9F-8A53-DC24555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9F9-3FE4-452E-9A0C-C7BF276B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9BE-F6F7-4CF7-8662-51B2187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B18-F1B7-4E29-AA5D-9DDCB38A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hysics of interstellar photon-dominated regions (PD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stry I+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sed on lecture notes by E. van Dishoeck, Leid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8200" y="158760"/>
            <a:ext cx="849780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al abundances are not precisely known. One possible standardization is to take Solar value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3357720"/>
          <a:ext cx="6095880" cy="2355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(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(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4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(-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(-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3(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(-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(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(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67600" y="566100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vesse &amp; Noels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8200" y="5867280"/>
            <a:ext cx="55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SM abundances ~ 30% 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38360" y="2852640"/>
            <a:ext cx="21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(P)/n(H)=2.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588000" y="3357720"/>
            <a:ext cx="136872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: Sun is not a young star → 4.7 Gyr of chemical evolution since star form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→ younger stars might be better suited as standards (Sofia &amp; Meyer,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tting 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47640" y="2133720"/>
          <a:ext cx="6096240" cy="3479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use 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se 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100 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00 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100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8...15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/[H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&g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0.2 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5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ing the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and molecules (neutral and 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 (cosmic ray part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omponents non-thermal,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interstellar clouds (by numb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%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%     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%    carbon, oxygen, 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&l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1%  silicon, iron,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ust (0.1µm silicates, carbonace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s are bound in dust with a significant fra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lemental abundance in the ISM is difficult to deter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mic rays (CR): penetrating flux of high energetic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zation of atoms &amp; molecules over the whole cloud (weak bu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trigger for many chemical reaction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R →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C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→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d ions/electrons have higher kinetic energies than the ambient medium → heating of the gas via collisions (balance with low-J CO lines without further energy sourc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~10-15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cal + UV photons: irradiation of molecular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interstellar radiation field (IRF) (e.g. Habing 1968, Draine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radiation field of young massive stars (O, B) formed out of the neighboring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zation and dissociation of atoms/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stry differs between cloud surfaces 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3) and dark cloud (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&gt;1) or between dense clouds and diffuse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V heats the dust → collisions with ga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electric effect releases hot electrons → collisions with gas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ga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R: photon dominate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between stars filled with a very dilute gas with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k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≈10-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are found in the cold neut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e clouds: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≈100 K, n≈100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e clouds :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≈10-100 K, n≈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at sea lev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k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≈300 K, n≈3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4941720"/>
            <a:ext cx="8209080" cy="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stellar clouds are very comples (turbulence, shock waves, ..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is much bigger than for simple spherical  cloud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rface effects much more important for large parts of the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tion may penetrate much deeper in a clumped medium compared to the homogeneous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5229360"/>
            <a:ext cx="3168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373720"/>
            <a:ext cx="503280" cy="287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5516640"/>
            <a:ext cx="503280" cy="287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5950080"/>
            <a:ext cx="432000" cy="287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5661000"/>
            <a:ext cx="57636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6021360"/>
            <a:ext cx="503280" cy="287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5877000"/>
            <a:ext cx="503280" cy="43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6093000"/>
            <a:ext cx="64620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6237360"/>
            <a:ext cx="503280" cy="287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5300640"/>
            <a:ext cx="792000" cy="287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5373720"/>
            <a:ext cx="503280" cy="214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734080"/>
            <a:ext cx="208944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5877000"/>
            <a:ext cx="2953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6021360"/>
            <a:ext cx="172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6165720"/>
            <a:ext cx="1584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6308640"/>
            <a:ext cx="172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6453360"/>
            <a:ext cx="3168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589720"/>
            <a:ext cx="1800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5445000"/>
            <a:ext cx="2376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300640"/>
            <a:ext cx="4500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Molecular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Gas-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low densit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-body collissions (with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   ~ 1 collision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body collisions do not become important until 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hermonuclear re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reactions are known with molecularity &gt; 3 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e clou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.rate coeff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=1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br>
              <a:rPr sz="2000"/>
            </a:b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coll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between collisions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~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 free path (v=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/s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Molecular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hemical reactions have rate coefficients k that obey the Arrhenius law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exponential fac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ion ener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ltzmann consta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of re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843200" y="2997360"/>
          <a:ext cx="405900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2997360"/>
                    <a:ext cx="40590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708360" y="5516640"/>
          <a:ext cx="2940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5516640"/>
                    <a:ext cx="294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Molecular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89600" y="265068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89600" y="5775480"/>
            <a:ext cx="392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27560" y="3355920"/>
            <a:ext cx="2998800" cy="1967040"/>
          </a:xfrm>
          <a:custGeom>
            <a:avLst/>
            <a:gdLst/>
            <a:ahLst/>
            <a:rect l="l" t="t" r="r" b="b"/>
            <a:pathLst>
              <a:path w="1386" h="1000">
                <a:moveTo>
                  <a:pt x="0" y="1000"/>
                </a:moveTo>
                <a:cubicBezTo>
                  <a:pt x="66" y="999"/>
                  <a:pt x="186" y="994"/>
                  <a:pt x="396" y="994"/>
                </a:cubicBezTo>
                <a:cubicBezTo>
                  <a:pt x="517" y="994"/>
                  <a:pt x="502" y="0"/>
                  <a:pt x="661" y="5"/>
                </a:cubicBezTo>
                <a:cubicBezTo>
                  <a:pt x="820" y="10"/>
                  <a:pt x="755" y="263"/>
                  <a:pt x="876" y="400"/>
                </a:cubicBezTo>
                <a:cubicBezTo>
                  <a:pt x="997" y="474"/>
                  <a:pt x="1280" y="438"/>
                  <a:pt x="1386" y="4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7840" y="3365640"/>
            <a:ext cx="0" cy="1963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29520" y="4259160"/>
            <a:ext cx="0" cy="1069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67560" y="4365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3240" y="45813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56880" y="57103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246200" y="41882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131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6200" y="494172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0200" y="38606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88880" y="264636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8880" y="577044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9960" y="3351240"/>
            <a:ext cx="3056040" cy="1704960"/>
          </a:xfrm>
          <a:custGeom>
            <a:avLst/>
            <a:gdLst/>
            <a:ahLst/>
            <a:rect l="l" t="t" r="r" b="b"/>
            <a:pathLst>
              <a:path w="1412" h="867">
                <a:moveTo>
                  <a:pt x="52" y="368"/>
                </a:moveTo>
                <a:cubicBezTo>
                  <a:pt x="114" y="367"/>
                  <a:pt x="0" y="360"/>
                  <a:pt x="424" y="360"/>
                </a:cubicBezTo>
                <a:cubicBezTo>
                  <a:pt x="545" y="362"/>
                  <a:pt x="528" y="0"/>
                  <a:pt x="687" y="5"/>
                </a:cubicBezTo>
                <a:cubicBezTo>
                  <a:pt x="846" y="10"/>
                  <a:pt x="886" y="594"/>
                  <a:pt x="992" y="730"/>
                </a:cubicBezTo>
                <a:cubicBezTo>
                  <a:pt x="1113" y="867"/>
                  <a:pt x="1325" y="806"/>
                  <a:pt x="1412" y="82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57480" y="3360600"/>
            <a:ext cx="0" cy="714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30520" y="4075200"/>
            <a:ext cx="0" cy="890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1200" y="357336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4240" y="42735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440" y="57056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-254160" y="4184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1640" y="21528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3840" y="371628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6200" y="49417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Molecular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ormation process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ative associ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+ 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Y + h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in surface reac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+ Y: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Y: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Y + 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truction process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dissocia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Y + h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ociative recombin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 + 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arrangement process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n-molecule reac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YZ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ge transfer reac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YZ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YZ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utral-neutral reac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 + YZ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18184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3625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79640" y="182520"/>
            <a:ext cx="5400720" cy="66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ve association (photoassociation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+ Y          XY*          XY + h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t process: very slow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95640" y="2349360"/>
          <a:ext cx="101412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349360"/>
                    <a:ext cx="1014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67280" y="2492280"/>
          <a:ext cx="95724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492280"/>
                    <a:ext cx="9572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400080" y="2492280"/>
            <a:ext cx="29260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ergy conserv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must be e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gas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00000" y="4076640"/>
            <a:ext cx="0" cy="247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655488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2080" y="4503600"/>
            <a:ext cx="2940120" cy="1760760"/>
          </a:xfrm>
          <a:custGeom>
            <a:avLst/>
            <a:gdLst/>
            <a:ahLst/>
            <a:rect l="l" t="t" r="r" b="b"/>
            <a:pathLst>
              <a:path w="1852" h="1109">
                <a:moveTo>
                  <a:pt x="1852" y="411"/>
                </a:moveTo>
                <a:cubicBezTo>
                  <a:pt x="460" y="363"/>
                  <a:pt x="748" y="1109"/>
                  <a:pt x="364" y="1083"/>
                </a:cubicBezTo>
                <a:cubicBezTo>
                  <a:pt x="124" y="1067"/>
                  <a:pt x="92" y="61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70520" y="64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44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8920" y="6086520"/>
            <a:ext cx="50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5973840"/>
            <a:ext cx="66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1840" y="5851440"/>
            <a:ext cx="779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66920" y="5729400"/>
            <a:ext cx="88884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9920" y="5614920"/>
            <a:ext cx="10224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5132520"/>
            <a:ext cx="2840040" cy="2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72560" y="46735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400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5013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501336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80680" y="4365720"/>
            <a:ext cx="38671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/k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  vib.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,d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                 collision tim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olecule formation occurs onl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: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igher efficiency if excited electronic state 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900000" y="4076640"/>
            <a:ext cx="0" cy="247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655488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70520" y="64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62080" y="4503600"/>
            <a:ext cx="2940120" cy="1760760"/>
          </a:xfrm>
          <a:custGeom>
            <a:avLst/>
            <a:gdLst/>
            <a:ahLst/>
            <a:rect l="l" t="t" r="r" b="b"/>
            <a:pathLst>
              <a:path w="1852" h="1109">
                <a:moveTo>
                  <a:pt x="1852" y="411"/>
                </a:moveTo>
                <a:cubicBezTo>
                  <a:pt x="460" y="363"/>
                  <a:pt x="748" y="1109"/>
                  <a:pt x="364" y="1083"/>
                </a:cubicBezTo>
                <a:cubicBezTo>
                  <a:pt x="124" y="1067"/>
                  <a:pt x="92" y="61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8920" y="6086520"/>
            <a:ext cx="50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973840"/>
            <a:ext cx="66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1840" y="5851440"/>
            <a:ext cx="779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66920" y="5729400"/>
            <a:ext cx="88884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9920" y="5614920"/>
            <a:ext cx="10224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5132520"/>
            <a:ext cx="2840040" cy="2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2560" y="46735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5013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501336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81040" y="4365720"/>
            <a:ext cx="38156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8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        electronic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,d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       collision tim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efficiency increased to 1: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32000" y="4797360"/>
            <a:ext cx="2724120" cy="935280"/>
            <a:chOff x="1332000" y="4797360"/>
            <a:chExt cx="2724120" cy="935280"/>
          </a:xfrm>
        </p:grpSpPr>
        <p:sp>
          <p:nvSpPr>
            <p:cNvPr id="216" name=""/>
            <p:cNvSpPr/>
            <p:nvPr/>
          </p:nvSpPr>
          <p:spPr>
            <a:xfrm>
              <a:off x="1332000" y="4797360"/>
              <a:ext cx="2724120" cy="93528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1840" y="5638320"/>
              <a:ext cx="4658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96600" y="5578200"/>
              <a:ext cx="6159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4120" y="5513400"/>
              <a:ext cx="72180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1720" y="5448240"/>
              <a:ext cx="82332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6520" y="5387760"/>
              <a:ext cx="947160" cy="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are very different from those, normally found in chemistry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temperatures and low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have low energies and are far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2-body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exotherm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tivation energy barr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verse predi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076640"/>
            <a:ext cx="0" cy="247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655488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70520" y="64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44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79640" y="3695760"/>
            <a:ext cx="3022560" cy="256860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8920" y="6086520"/>
            <a:ext cx="50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5973840"/>
            <a:ext cx="66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01840" y="5851440"/>
            <a:ext cx="779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66920" y="5729400"/>
            <a:ext cx="88884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9920" y="5614920"/>
            <a:ext cx="10224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5132520"/>
            <a:ext cx="2840040" cy="2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72560" y="46735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4653000"/>
            <a:ext cx="71928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84520" y="465300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46040" y="3479760"/>
            <a:ext cx="2757600" cy="1668600"/>
          </a:xfrm>
          <a:custGeom>
            <a:avLst/>
            <a:gdLst/>
            <a:ahLst/>
            <a:rect l="l" t="t" r="r" b="b"/>
            <a:pathLst>
              <a:path w="1737" h="1051">
                <a:moveTo>
                  <a:pt x="1737" y="1051"/>
                </a:moveTo>
                <a:cubicBezTo>
                  <a:pt x="833" y="1051"/>
                  <a:pt x="200" y="8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508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1920" y="4368960"/>
            <a:ext cx="38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nteraction between boun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pulsive state is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fficiency increased compar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he simplest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32000" y="4005360"/>
            <a:ext cx="1944720" cy="934920"/>
            <a:chOff x="1332000" y="4005360"/>
            <a:chExt cx="1944720" cy="934920"/>
          </a:xfrm>
        </p:grpSpPr>
        <p:sp>
          <p:nvSpPr>
            <p:cNvPr id="242" name=""/>
            <p:cNvSpPr/>
            <p:nvPr/>
          </p:nvSpPr>
          <p:spPr>
            <a:xfrm>
              <a:off x="1332000" y="4005360"/>
              <a:ext cx="1944720" cy="93492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74640" y="4845960"/>
              <a:ext cx="3326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1000" y="4785840"/>
              <a:ext cx="439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0400" y="4721040"/>
              <a:ext cx="5155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67360" y="4656240"/>
              <a:ext cx="58788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9360" y="4595400"/>
              <a:ext cx="676080" cy="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44360" y="386064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verse vibrational predi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900000" y="4076640"/>
            <a:ext cx="0" cy="247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55488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70520" y="64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44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62080" y="4503600"/>
            <a:ext cx="3003480" cy="1812960"/>
          </a:xfrm>
          <a:custGeom>
            <a:avLst/>
            <a:gdLst/>
            <a:ahLst/>
            <a:rect l="l" t="t" r="r" b="b"/>
            <a:pathLst>
              <a:path w="1892" h="1142">
                <a:moveTo>
                  <a:pt x="1892" y="619"/>
                </a:moveTo>
                <a:cubicBezTo>
                  <a:pt x="1793" y="604"/>
                  <a:pt x="1339" y="639"/>
                  <a:pt x="1172" y="595"/>
                </a:cubicBezTo>
                <a:cubicBezTo>
                  <a:pt x="1005" y="551"/>
                  <a:pt x="1068" y="347"/>
                  <a:pt x="892" y="355"/>
                </a:cubicBezTo>
                <a:cubicBezTo>
                  <a:pt x="692" y="373"/>
                  <a:pt x="513" y="1142"/>
                  <a:pt x="364" y="1083"/>
                </a:cubicBezTo>
                <a:cubicBezTo>
                  <a:pt x="124" y="1067"/>
                  <a:pt x="92" y="619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8920" y="6086520"/>
            <a:ext cx="379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973840"/>
            <a:ext cx="531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1840" y="5851440"/>
            <a:ext cx="649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66920" y="5729400"/>
            <a:ext cx="73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9920" y="5614920"/>
            <a:ext cx="817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5373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360" y="55897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556000" y="4941360"/>
            <a:ext cx="79056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94172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82480" y="4368960"/>
            <a:ext cx="3576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 can be “trapped”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ier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fficiency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537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Photodissociation      XY + h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→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4076640"/>
            <a:ext cx="0" cy="247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655488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70520" y="64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44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79640" y="3695760"/>
            <a:ext cx="3022560" cy="256860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8920" y="6086520"/>
            <a:ext cx="502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973840"/>
            <a:ext cx="66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01840" y="5851440"/>
            <a:ext cx="779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66920" y="5729400"/>
            <a:ext cx="88884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9920" y="5614920"/>
            <a:ext cx="10224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5132520"/>
            <a:ext cx="2840040" cy="2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72560" y="46735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4581360"/>
            <a:ext cx="719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4520" y="4581360"/>
            <a:ext cx="0" cy="151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30520"/>
            <a:ext cx="2960640" cy="1617840"/>
          </a:xfrm>
          <a:custGeom>
            <a:avLst/>
            <a:gdLst/>
            <a:ahLst/>
            <a:rect l="l" t="t" r="r" b="b"/>
            <a:pathLst>
              <a:path w="1865" h="1019">
                <a:moveTo>
                  <a:pt x="1865" y="1019"/>
                </a:moveTo>
                <a:cubicBezTo>
                  <a:pt x="961" y="1019"/>
                  <a:pt x="200" y="8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003640" y="4076640"/>
            <a:ext cx="0" cy="2478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3640" y="6554880"/>
            <a:ext cx="39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4160" y="64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508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632040"/>
            <a:ext cx="3024360" cy="2632320"/>
          </a:xfrm>
          <a:custGeom>
            <a:avLst/>
            <a:gdLst/>
            <a:ahLst/>
            <a:rect l="l" t="t" r="r" b="b"/>
            <a:pathLst>
              <a:path w="1905" h="1658">
                <a:moveTo>
                  <a:pt x="1905" y="960"/>
                </a:moveTo>
                <a:cubicBezTo>
                  <a:pt x="513" y="912"/>
                  <a:pt x="801" y="1658"/>
                  <a:pt x="417" y="1632"/>
                </a:cubicBezTo>
                <a:cubicBezTo>
                  <a:pt x="177" y="1616"/>
                  <a:pt x="88" y="1032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32560" y="6086520"/>
            <a:ext cx="503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51560" y="5973840"/>
            <a:ext cx="66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05480" y="5851440"/>
            <a:ext cx="779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70560" y="5729400"/>
            <a:ext cx="88884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43560" y="5614920"/>
            <a:ext cx="10224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2560" y="5132520"/>
            <a:ext cx="2840040" cy="2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76200" y="46735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43700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89440" y="3645000"/>
            <a:ext cx="1944720" cy="934920"/>
            <a:chOff x="5689440" y="3645000"/>
            <a:chExt cx="1944720" cy="934920"/>
          </a:xfrm>
        </p:grpSpPr>
        <p:sp>
          <p:nvSpPr>
            <p:cNvPr id="298" name=""/>
            <p:cNvSpPr/>
            <p:nvPr/>
          </p:nvSpPr>
          <p:spPr>
            <a:xfrm>
              <a:off x="5689440" y="3645000"/>
              <a:ext cx="1944720" cy="93492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2080" y="4485600"/>
              <a:ext cx="3326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78440" y="4425480"/>
              <a:ext cx="43956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7840" y="4360680"/>
              <a:ext cx="5155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4800" y="4295880"/>
              <a:ext cx="58788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06800" y="4235040"/>
              <a:ext cx="676080" cy="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740560" y="3340080"/>
            <a:ext cx="2466720" cy="1808280"/>
          </a:xfrm>
          <a:custGeom>
            <a:avLst/>
            <a:gdLst/>
            <a:ahLst/>
            <a:rect l="l" t="t" r="r" b="b"/>
            <a:pathLst>
              <a:path w="1554" h="1139">
                <a:moveTo>
                  <a:pt x="1554" y="1139"/>
                </a:moveTo>
                <a:cubicBezTo>
                  <a:pt x="650" y="1139"/>
                  <a:pt x="295" y="765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81440" y="3573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 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43640" y="4437000"/>
            <a:ext cx="649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15440" y="2584440"/>
            <a:ext cx="2562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rect photodi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H, H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, CH, CH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9960" y="256536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edi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050160" cy="49514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0288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y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21800" y="25653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54920" y="1628640"/>
            <a:ext cx="208908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hotodi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f both H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and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ccur by lin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sor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lf shie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.d. rates of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ecies uncertain. Unshielded rates may vary from &lt; 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to 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shielded p.d.rate of H2 in a unit Draine field: ~5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CO: 2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22120" y="12682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ontaneous radiative di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916360" y="2852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537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16360" y="285264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7080" y="17924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tinuou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2276640"/>
          <a:ext cx="32209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3220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00720" y="1916280"/>
            <a:ext cx="1618920" cy="1538280"/>
            <a:chOff x="4500720" y="1916280"/>
            <a:chExt cx="1618920" cy="1538280"/>
          </a:xfrm>
        </p:grpSpPr>
        <p:sp>
          <p:nvSpPr>
            <p:cNvPr id="324" name=""/>
            <p:cNvSpPr/>
            <p:nvPr/>
          </p:nvSpPr>
          <p:spPr>
            <a:xfrm>
              <a:off x="4500720" y="2009160"/>
              <a:ext cx="1618200" cy="1445400"/>
            </a:xfrm>
            <a:custGeom>
              <a:avLst/>
              <a:gdLst/>
              <a:ahLst/>
              <a:rect l="l" t="t" r="r" b="b"/>
              <a:pathLst>
                <a:path w="1904" h="1618">
                  <a:moveTo>
                    <a:pt x="1904" y="920"/>
                  </a:moveTo>
                  <a:cubicBezTo>
                    <a:pt x="512" y="872"/>
                    <a:pt x="800" y="1618"/>
                    <a:pt x="416" y="1592"/>
                  </a:cubicBezTo>
                  <a:cubicBezTo>
                    <a:pt x="176" y="1576"/>
                    <a:pt x="96" y="104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43880" y="2507400"/>
              <a:ext cx="384840" cy="12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8000" y="2507400"/>
              <a:ext cx="0" cy="85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34560" y="1916280"/>
              <a:ext cx="1585080" cy="910080"/>
            </a:xfrm>
            <a:custGeom>
              <a:avLst/>
              <a:gdLst/>
              <a:ahLst/>
              <a:rect l="l" t="t" r="r" b="b"/>
              <a:pathLst>
                <a:path w="1865" h="1019">
                  <a:moveTo>
                    <a:pt x="1865" y="1019"/>
                  </a:moveTo>
                  <a:cubicBezTo>
                    <a:pt x="961" y="1019"/>
                    <a:pt x="200" y="824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804000" y="2060640"/>
            <a:ext cx="1873440" cy="1066680"/>
          </a:xfrm>
          <a:custGeom>
            <a:avLst/>
            <a:gdLst/>
            <a:ahLst/>
            <a:rect l="l" t="t" r="r" b="b"/>
            <a:pathLst>
              <a:path w="1180" h="672">
                <a:moveTo>
                  <a:pt x="0" y="666"/>
                </a:moveTo>
                <a:cubicBezTo>
                  <a:pt x="557" y="664"/>
                  <a:pt x="384" y="0"/>
                  <a:pt x="581" y="0"/>
                </a:cubicBezTo>
                <a:cubicBezTo>
                  <a:pt x="778" y="0"/>
                  <a:pt x="589" y="672"/>
                  <a:pt x="1180" y="6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3885840" y="23904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799960" y="25635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440" y="3521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cre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55640" y="3933720"/>
          <a:ext cx="48546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933720"/>
                    <a:ext cx="4854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6516720" y="4149720"/>
          <a:ext cx="155412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149720"/>
                    <a:ext cx="15541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766440" y="5318280"/>
            <a:ext cx="59018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ociation probability of upper state,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ul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ne absorption oscillator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ul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):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ormalized line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J(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):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ean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356760" y="28227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8880" y="52275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490840"/>
            <a:ext cx="1835280" cy="167940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08520" y="4054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59200" y="3979800"/>
            <a:ext cx="403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0760" y="3900600"/>
            <a:ext cx="474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3821040"/>
            <a:ext cx="5400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94040" y="3746520"/>
            <a:ext cx="62064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45080" y="3430440"/>
            <a:ext cx="1723680" cy="144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57800" y="3116160"/>
            <a:ext cx="436320" cy="14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64040" y="2781360"/>
            <a:ext cx="0" cy="1276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84680" y="2349360"/>
            <a:ext cx="1687320" cy="1090800"/>
          </a:xfrm>
          <a:custGeom>
            <a:avLst/>
            <a:gdLst/>
            <a:ahLst/>
            <a:rect l="l" t="t" r="r" b="b"/>
            <a:pathLst>
              <a:path w="1063" h="687">
                <a:moveTo>
                  <a:pt x="1063" y="687"/>
                </a:moveTo>
                <a:cubicBezTo>
                  <a:pt x="112" y="632"/>
                  <a:pt x="416" y="384"/>
                  <a:pt x="176" y="376"/>
                </a:cubicBezTo>
                <a:cubicBezTo>
                  <a:pt x="0" y="261"/>
                  <a:pt x="36" y="63"/>
                  <a:pt x="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851280" y="2205000"/>
            <a:ext cx="1181160" cy="612720"/>
            <a:chOff x="3851280" y="2205000"/>
            <a:chExt cx="1181160" cy="612720"/>
          </a:xfrm>
        </p:grpSpPr>
        <p:sp>
          <p:nvSpPr>
            <p:cNvPr id="351" name=""/>
            <p:cNvSpPr/>
            <p:nvPr/>
          </p:nvSpPr>
          <p:spPr>
            <a:xfrm>
              <a:off x="3851280" y="2205000"/>
              <a:ext cx="1181160" cy="61272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98520" y="2755800"/>
              <a:ext cx="2019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66120" y="2716560"/>
              <a:ext cx="2671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7400" y="2674080"/>
              <a:ext cx="31284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33360" y="2631600"/>
              <a:ext cx="357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22560" y="2591640"/>
              <a:ext cx="410760" cy="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116000" y="4711680"/>
            <a:ext cx="1871640" cy="1130400"/>
          </a:xfrm>
          <a:custGeom>
            <a:avLst/>
            <a:gdLst/>
            <a:ahLst/>
            <a:rect l="l" t="t" r="r" b="b"/>
            <a:pathLst>
              <a:path w="1496" h="712">
                <a:moveTo>
                  <a:pt x="0" y="689"/>
                </a:moveTo>
                <a:cubicBezTo>
                  <a:pt x="406" y="656"/>
                  <a:pt x="182" y="16"/>
                  <a:pt x="278" y="8"/>
                </a:cubicBezTo>
                <a:cubicBezTo>
                  <a:pt x="374" y="0"/>
                  <a:pt x="206" y="672"/>
                  <a:pt x="630" y="680"/>
                </a:cubicBezTo>
                <a:cubicBezTo>
                  <a:pt x="870" y="672"/>
                  <a:pt x="710" y="152"/>
                  <a:pt x="798" y="136"/>
                </a:cubicBezTo>
                <a:cubicBezTo>
                  <a:pt x="886" y="120"/>
                  <a:pt x="766" y="712"/>
                  <a:pt x="950" y="664"/>
                </a:cubicBezTo>
                <a:cubicBezTo>
                  <a:pt x="1214" y="664"/>
                  <a:pt x="1100" y="229"/>
                  <a:pt x="1198" y="232"/>
                </a:cubicBezTo>
                <a:cubicBezTo>
                  <a:pt x="1270" y="544"/>
                  <a:pt x="1174" y="672"/>
                  <a:pt x="1496" y="68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76360" y="2349360"/>
            <a:ext cx="1836720" cy="1820520"/>
            <a:chOff x="1476360" y="2349360"/>
            <a:chExt cx="1836720" cy="1820520"/>
          </a:xfrm>
        </p:grpSpPr>
        <p:sp>
          <p:nvSpPr>
            <p:cNvPr id="359" name=""/>
            <p:cNvSpPr/>
            <p:nvPr/>
          </p:nvSpPr>
          <p:spPr>
            <a:xfrm>
              <a:off x="1476360" y="2490480"/>
              <a:ext cx="1835640" cy="1679400"/>
            </a:xfrm>
            <a:custGeom>
              <a:avLst/>
              <a:gdLst/>
              <a:ahLst/>
              <a:rect l="l" t="t" r="r" b="b"/>
              <a:pathLst>
                <a:path w="1904" h="1618">
                  <a:moveTo>
                    <a:pt x="1904" y="920"/>
                  </a:moveTo>
                  <a:cubicBezTo>
                    <a:pt x="512" y="872"/>
                    <a:pt x="800" y="1618"/>
                    <a:pt x="416" y="1592"/>
                  </a:cubicBezTo>
                  <a:cubicBezTo>
                    <a:pt x="176" y="1576"/>
                    <a:pt x="96" y="104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48880" y="4053960"/>
              <a:ext cx="3056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99920" y="3980160"/>
              <a:ext cx="4039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72200" y="3900240"/>
              <a:ext cx="473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0960" y="3820320"/>
              <a:ext cx="539640" cy="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34400" y="3745800"/>
              <a:ext cx="620640" cy="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85440" y="3430080"/>
              <a:ext cx="1724760" cy="144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98520" y="3116520"/>
              <a:ext cx="436680" cy="14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04400" y="3116520"/>
              <a:ext cx="0" cy="94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38360" y="2349360"/>
              <a:ext cx="1674720" cy="1091160"/>
            </a:xfrm>
            <a:custGeom>
              <a:avLst/>
              <a:gdLst/>
              <a:ahLst/>
              <a:rect l="l" t="t" r="r" b="b"/>
              <a:pathLst>
                <a:path w="1737" h="1051">
                  <a:moveTo>
                    <a:pt x="1737" y="1051"/>
                  </a:moveTo>
                  <a:cubicBezTo>
                    <a:pt x="833" y="1051"/>
                    <a:pt x="200" y="824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629720" y="2692800"/>
              <a:ext cx="1180800" cy="611280"/>
              <a:chOff x="1629720" y="2692800"/>
              <a:chExt cx="1180800" cy="611280"/>
            </a:xfrm>
          </p:grpSpPr>
          <p:sp>
            <p:nvSpPr>
              <p:cNvPr id="370" name=""/>
              <p:cNvSpPr/>
              <p:nvPr/>
            </p:nvSpPr>
            <p:spPr>
              <a:xfrm>
                <a:off x="1629720" y="2692800"/>
                <a:ext cx="1180800" cy="611280"/>
              </a:xfrm>
              <a:custGeom>
                <a:avLst/>
                <a:gdLst/>
                <a:ahLst/>
                <a:rect l="l" t="t" r="r" b="b"/>
                <a:pathLst>
                  <a:path w="1852" h="1109">
                    <a:moveTo>
                      <a:pt x="1852" y="411"/>
                    </a:moveTo>
                    <a:cubicBezTo>
                      <a:pt x="460" y="363"/>
                      <a:pt x="748" y="1109"/>
                      <a:pt x="364" y="1083"/>
                    </a:cubicBezTo>
                    <a:cubicBezTo>
                      <a:pt x="124" y="1067"/>
                      <a:pt x="92" y="61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76960" y="3242520"/>
                <a:ext cx="20196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44200" y="3203280"/>
                <a:ext cx="26676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25840" y="3160800"/>
                <a:ext cx="31284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11800" y="3118320"/>
                <a:ext cx="356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01000" y="3078720"/>
                <a:ext cx="410400" cy="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3419640" y="4286160"/>
            <a:ext cx="2304720" cy="1695600"/>
          </a:xfrm>
          <a:custGeom>
            <a:avLst/>
            <a:gdLst/>
            <a:ahLst/>
            <a:rect l="l" t="t" r="r" b="b"/>
            <a:pathLst>
              <a:path w="1452" h="1068">
                <a:moveTo>
                  <a:pt x="0" y="1002"/>
                </a:moveTo>
                <a:cubicBezTo>
                  <a:pt x="142" y="972"/>
                  <a:pt x="304" y="549"/>
                  <a:pt x="382" y="548"/>
                </a:cubicBezTo>
                <a:cubicBezTo>
                  <a:pt x="460" y="547"/>
                  <a:pt x="451" y="1068"/>
                  <a:pt x="470" y="996"/>
                </a:cubicBezTo>
                <a:cubicBezTo>
                  <a:pt x="489" y="924"/>
                  <a:pt x="483" y="232"/>
                  <a:pt x="494" y="116"/>
                </a:cubicBezTo>
                <a:cubicBezTo>
                  <a:pt x="505" y="0"/>
                  <a:pt x="503" y="259"/>
                  <a:pt x="534" y="300"/>
                </a:cubicBezTo>
                <a:cubicBezTo>
                  <a:pt x="565" y="341"/>
                  <a:pt x="649" y="252"/>
                  <a:pt x="678" y="364"/>
                </a:cubicBezTo>
                <a:cubicBezTo>
                  <a:pt x="714" y="377"/>
                  <a:pt x="686" y="960"/>
                  <a:pt x="710" y="972"/>
                </a:cubicBezTo>
                <a:cubicBezTo>
                  <a:pt x="731" y="947"/>
                  <a:pt x="778" y="296"/>
                  <a:pt x="806" y="212"/>
                </a:cubicBezTo>
                <a:cubicBezTo>
                  <a:pt x="834" y="128"/>
                  <a:pt x="750" y="276"/>
                  <a:pt x="878" y="468"/>
                </a:cubicBezTo>
                <a:cubicBezTo>
                  <a:pt x="1006" y="660"/>
                  <a:pt x="1054" y="615"/>
                  <a:pt x="1102" y="700"/>
                </a:cubicBezTo>
                <a:cubicBezTo>
                  <a:pt x="1150" y="785"/>
                  <a:pt x="1146" y="991"/>
                  <a:pt x="1166" y="980"/>
                </a:cubicBezTo>
                <a:cubicBezTo>
                  <a:pt x="1186" y="969"/>
                  <a:pt x="1207" y="664"/>
                  <a:pt x="1222" y="636"/>
                </a:cubicBezTo>
                <a:cubicBezTo>
                  <a:pt x="1237" y="608"/>
                  <a:pt x="1216" y="751"/>
                  <a:pt x="1254" y="812"/>
                </a:cubicBezTo>
                <a:cubicBezTo>
                  <a:pt x="1292" y="873"/>
                  <a:pt x="1302" y="1012"/>
                  <a:pt x="1452" y="100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27640" y="4724280"/>
            <a:ext cx="1871640" cy="1081080"/>
          </a:xfrm>
          <a:custGeom>
            <a:avLst/>
            <a:gdLst/>
            <a:ahLst/>
            <a:rect l="l" t="t" r="r" b="b"/>
            <a:pathLst>
              <a:path w="1179" h="681">
                <a:moveTo>
                  <a:pt x="0" y="681"/>
                </a:moveTo>
                <a:cubicBezTo>
                  <a:pt x="320" y="648"/>
                  <a:pt x="181" y="496"/>
                  <a:pt x="219" y="0"/>
                </a:cubicBezTo>
                <a:cubicBezTo>
                  <a:pt x="277" y="448"/>
                  <a:pt x="162" y="664"/>
                  <a:pt x="497" y="672"/>
                </a:cubicBezTo>
                <a:cubicBezTo>
                  <a:pt x="686" y="664"/>
                  <a:pt x="621" y="640"/>
                  <a:pt x="629" y="128"/>
                </a:cubicBezTo>
                <a:cubicBezTo>
                  <a:pt x="645" y="616"/>
                  <a:pt x="597" y="656"/>
                  <a:pt x="749" y="656"/>
                </a:cubicBezTo>
                <a:cubicBezTo>
                  <a:pt x="957" y="656"/>
                  <a:pt x="909" y="664"/>
                  <a:pt x="944" y="224"/>
                </a:cubicBezTo>
                <a:cubicBezTo>
                  <a:pt x="965" y="640"/>
                  <a:pt x="925" y="664"/>
                  <a:pt x="1179" y="68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2490840"/>
            <a:ext cx="1835280" cy="167940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61240" y="4054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11920" y="3979800"/>
            <a:ext cx="403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83480" y="3900600"/>
            <a:ext cx="474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62600" y="3821040"/>
            <a:ext cx="5400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46760" y="3746520"/>
            <a:ext cx="62100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430440"/>
            <a:ext cx="1724040" cy="144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10520" y="3116160"/>
            <a:ext cx="436320" cy="14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7016400" y="2852640"/>
            <a:ext cx="324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59640" y="2349360"/>
            <a:ext cx="1674720" cy="1090800"/>
          </a:xfrm>
          <a:custGeom>
            <a:avLst/>
            <a:gdLst/>
            <a:ahLst/>
            <a:rect l="l" t="t" r="r" b="b"/>
            <a:pathLst>
              <a:path w="1737" h="1051">
                <a:moveTo>
                  <a:pt x="1737" y="1051"/>
                </a:moveTo>
                <a:cubicBezTo>
                  <a:pt x="833" y="1051"/>
                  <a:pt x="200" y="8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77080" y="2276640"/>
            <a:ext cx="1181160" cy="612720"/>
            <a:chOff x="6877080" y="2276640"/>
            <a:chExt cx="1181160" cy="612720"/>
          </a:xfrm>
        </p:grpSpPr>
        <p:sp>
          <p:nvSpPr>
            <p:cNvPr id="389" name=""/>
            <p:cNvSpPr/>
            <p:nvPr/>
          </p:nvSpPr>
          <p:spPr>
            <a:xfrm>
              <a:off x="6877080" y="2276640"/>
              <a:ext cx="1181160" cy="61272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24320" y="2827440"/>
              <a:ext cx="2019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91920" y="2788200"/>
              <a:ext cx="2671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73200" y="2745720"/>
              <a:ext cx="31284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9160" y="2703240"/>
              <a:ext cx="357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48360" y="2663280"/>
              <a:ext cx="410760" cy="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130880" y="2852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236000" y="2852640"/>
            <a:ext cx="28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70720" y="141300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i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0880" y="141300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pl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H,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47960" y="1413000"/>
            <a:ext cx="2410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ntaneous rad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70360" y="596916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y narr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asy to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32720" cy="47926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stellar Radiation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stellar Radiation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dditional source of UV photons in dark clouds (Gredel et al. 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smic ray induced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+ CR →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+ e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* +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→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*  →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042920" y="1219320"/>
            <a:ext cx="7058160" cy="4419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346360" y="582444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del et al.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75400" y="639720"/>
            <a:ext cx="238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emission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. Dissociative re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tomic ions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+ e    → X + h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ative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olecular ions: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+ e → XY + h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diative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slow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                     → X + Y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ssociative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very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apid at low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428040" y="44784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4146480"/>
            <a:ext cx="1835280" cy="167976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0880" y="5710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71560" y="5635800"/>
            <a:ext cx="403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43120" y="5556240"/>
            <a:ext cx="474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22600" y="5477040"/>
            <a:ext cx="539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06400" y="5402160"/>
            <a:ext cx="621000" cy="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57440" y="5086440"/>
            <a:ext cx="1724040" cy="14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976040" y="4365720"/>
            <a:ext cx="3240" cy="134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33840" y="4437000"/>
            <a:ext cx="1674720" cy="1090800"/>
          </a:xfrm>
          <a:custGeom>
            <a:avLst/>
            <a:gdLst/>
            <a:ahLst/>
            <a:rect l="l" t="t" r="r" b="b"/>
            <a:pathLst>
              <a:path w="1737" h="1051">
                <a:moveTo>
                  <a:pt x="1737" y="1051"/>
                </a:moveTo>
                <a:cubicBezTo>
                  <a:pt x="833" y="1051"/>
                  <a:pt x="200" y="82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701720" y="4348080"/>
            <a:ext cx="1181160" cy="612720"/>
            <a:chOff x="1701720" y="4348080"/>
            <a:chExt cx="1181160" cy="612720"/>
          </a:xfrm>
        </p:grpSpPr>
        <p:sp>
          <p:nvSpPr>
            <p:cNvPr id="421" name=""/>
            <p:cNvSpPr/>
            <p:nvPr/>
          </p:nvSpPr>
          <p:spPr>
            <a:xfrm>
              <a:off x="1701720" y="4348080"/>
              <a:ext cx="1181160" cy="61272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48960" y="4898880"/>
              <a:ext cx="2019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16560" y="4859640"/>
              <a:ext cx="2671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7840" y="4817160"/>
              <a:ext cx="31284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83800" y="4774680"/>
              <a:ext cx="357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73000" y="4734720"/>
              <a:ext cx="410760" cy="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692360" y="4038480"/>
            <a:ext cx="1368360" cy="541440"/>
            <a:chOff x="1692360" y="4038480"/>
            <a:chExt cx="1368360" cy="541440"/>
          </a:xfrm>
        </p:grpSpPr>
        <p:sp>
          <p:nvSpPr>
            <p:cNvPr id="428" name=""/>
            <p:cNvSpPr/>
            <p:nvPr/>
          </p:nvSpPr>
          <p:spPr>
            <a:xfrm>
              <a:off x="1692360" y="4038480"/>
              <a:ext cx="1368360" cy="541440"/>
            </a:xfrm>
            <a:custGeom>
              <a:avLst/>
              <a:gdLst/>
              <a:ahLst/>
              <a:rect l="l" t="t" r="r" b="b"/>
              <a:pathLst>
                <a:path w="1852" h="1109">
                  <a:moveTo>
                    <a:pt x="1852" y="411"/>
                  </a:moveTo>
                  <a:cubicBezTo>
                    <a:pt x="460" y="363"/>
                    <a:pt x="748" y="1109"/>
                    <a:pt x="364" y="1083"/>
                  </a:cubicBezTo>
                  <a:cubicBezTo>
                    <a:pt x="124" y="1067"/>
                    <a:pt x="92" y="619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63000" y="4525200"/>
              <a:ext cx="23400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25200" y="4490640"/>
              <a:ext cx="30924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03960" y="4452840"/>
              <a:ext cx="3625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87400" y="4415400"/>
              <a:ext cx="4136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74800" y="4380120"/>
              <a:ext cx="4755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2758320" y="38815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76680" y="4221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44360" y="46530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50160" y="6093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4076640"/>
            <a:ext cx="1835280" cy="100800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84520" y="50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06760" y="4923000"/>
            <a:ext cx="474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70400" y="4830840"/>
            <a:ext cx="62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87200" y="422100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1800" y="50846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43280" y="4829040"/>
            <a:ext cx="0" cy="184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5013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35240" y="6093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a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84920" y="4024440"/>
            <a:ext cx="235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curve crossing between XZ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pulsive XY potential for reaction to proceed fast. Occurs for most molecular 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3800" y="1751040"/>
            <a:ext cx="5225760" cy="1158840"/>
          </a:xfrm>
          <a:custGeom>
            <a:avLst/>
            <a:gdLst/>
            <a:ahLst/>
            <a:rect l="l" t="t" r="r" b="b"/>
            <a:pathLst>
              <a:path w="3292" h="730">
                <a:moveTo>
                  <a:pt x="0" y="1"/>
                </a:moveTo>
                <a:cubicBezTo>
                  <a:pt x="163" y="1"/>
                  <a:pt x="758" y="0"/>
                  <a:pt x="980" y="0"/>
                </a:cubicBezTo>
                <a:cubicBezTo>
                  <a:pt x="1202" y="0"/>
                  <a:pt x="1220" y="485"/>
                  <a:pt x="1326" y="485"/>
                </a:cubicBezTo>
                <a:cubicBezTo>
                  <a:pt x="1432" y="504"/>
                  <a:pt x="1518" y="75"/>
                  <a:pt x="1614" y="115"/>
                </a:cubicBezTo>
                <a:cubicBezTo>
                  <a:pt x="1710" y="34"/>
                  <a:pt x="1777" y="730"/>
                  <a:pt x="1902" y="724"/>
                </a:cubicBezTo>
                <a:cubicBezTo>
                  <a:pt x="2027" y="718"/>
                  <a:pt x="1916" y="381"/>
                  <a:pt x="2148" y="312"/>
                </a:cubicBezTo>
                <a:cubicBezTo>
                  <a:pt x="2461" y="312"/>
                  <a:pt x="3054" y="312"/>
                  <a:pt x="3292" y="3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58720" y="1393560"/>
            <a:ext cx="6769080" cy="4175280"/>
            <a:chOff x="558720" y="1393560"/>
            <a:chExt cx="6769080" cy="4175280"/>
          </a:xfrm>
        </p:grpSpPr>
        <p:sp>
          <p:nvSpPr>
            <p:cNvPr id="51" name=""/>
            <p:cNvSpPr/>
            <p:nvPr/>
          </p:nvSpPr>
          <p:spPr>
            <a:xfrm flipV="1">
              <a:off x="558720" y="1393560"/>
              <a:ext cx="0" cy="417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8720" y="5568840"/>
              <a:ext cx="676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90440" y="3751200"/>
            <a:ext cx="5278680" cy="1268640"/>
          </a:xfrm>
          <a:custGeom>
            <a:avLst/>
            <a:gdLst/>
            <a:ahLst/>
            <a:rect l="l" t="t" r="r" b="b"/>
            <a:pathLst>
              <a:path w="3325" h="799">
                <a:moveTo>
                  <a:pt x="0" y="353"/>
                </a:moveTo>
                <a:cubicBezTo>
                  <a:pt x="163" y="354"/>
                  <a:pt x="749" y="344"/>
                  <a:pt x="979" y="361"/>
                </a:cubicBezTo>
                <a:cubicBezTo>
                  <a:pt x="1209" y="378"/>
                  <a:pt x="1231" y="762"/>
                  <a:pt x="1341" y="715"/>
                </a:cubicBezTo>
                <a:cubicBezTo>
                  <a:pt x="1451" y="668"/>
                  <a:pt x="1550" y="67"/>
                  <a:pt x="1642" y="81"/>
                </a:cubicBezTo>
                <a:cubicBezTo>
                  <a:pt x="1738" y="0"/>
                  <a:pt x="1786" y="799"/>
                  <a:pt x="1896" y="798"/>
                </a:cubicBezTo>
                <a:cubicBezTo>
                  <a:pt x="2006" y="797"/>
                  <a:pt x="1920" y="526"/>
                  <a:pt x="2140" y="517"/>
                </a:cubicBezTo>
                <a:cubicBezTo>
                  <a:pt x="2360" y="508"/>
                  <a:pt x="3078" y="517"/>
                  <a:pt x="3325" y="5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5800" y="1752480"/>
            <a:ext cx="4464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28880" y="4311720"/>
            <a:ext cx="4464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91440" y="1752480"/>
            <a:ext cx="72720" cy="505080"/>
          </a:xfrm>
          <a:custGeom>
            <a:avLst/>
            <a:gdLst>
              <a:gd name="textAreaLeft" fmla="*/ 0 w 72720"/>
              <a:gd name="textAreaRight" fmla="*/ 26280 w 727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64160" y="4344840"/>
            <a:ext cx="73080" cy="217800"/>
          </a:xfrm>
          <a:custGeom>
            <a:avLst/>
            <a:gdLst>
              <a:gd name="textAreaLeft" fmla="*/ 0 w 73080"/>
              <a:gd name="textAreaRight" fmla="*/ 26280 w 73080"/>
              <a:gd name="textAreaTop" fmla="*/ 5400 h 217800"/>
              <a:gd name="textAreaBottom" fmla="*/ 21240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17733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37240" y="42735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3960" y="55897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tion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313200" y="3240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t.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8880" y="20606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n-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160" y="45086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utral-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03800" y="384192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31600" y="378936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ation energy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2640" y="1268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920" y="26179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6480" y="13939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...B...E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560" y="290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..B-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7560" y="18972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+ B-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7760" y="38419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-B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75800" y="49212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-B..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06720" y="348156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...B...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6520" y="50655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..B-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40520" y="42735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+ B-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uncertainties in models: product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-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 + H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→ OH +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→ OH + H + H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→ OH +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+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2492280"/>
            <a:ext cx="287280" cy="14414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59600" y="285264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343640" y="4149720"/>
          <a:ext cx="1800360" cy="2070000"/>
        </p:xfrm>
        <a:graphic>
          <a:graphicData uri="http://schemas.openxmlformats.org/drawingml/2006/table">
            <a:tbl>
              <a:tblPr/>
              <a:tblGrid>
                <a:gridCol w="901800"/>
                <a:gridCol w="89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 rot="16200000">
            <a:off x="6940440" y="30794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jby_C et al. ‘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7594200" y="30016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s et al. ‘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4720" y="5084640"/>
            <a:ext cx="3166920" cy="1081080"/>
          </a:xfrm>
          <a:prstGeom prst="ellipse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54720" y="61912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-body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truct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Collision induced di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 is high enough (T&gt; 5000K),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destroyed by collis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→ H + H + H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 +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→ He + H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→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H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2 has no permanent dipole moment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ignificant population in high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levels at high T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large dissocia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 has small dipole moment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radiative stabiliyation rapid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not much pop. in high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mall dissocia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7080" y="2205000"/>
            <a:ext cx="1835280" cy="1679760"/>
          </a:xfrm>
          <a:custGeom>
            <a:avLst/>
            <a:gdLst/>
            <a:ahLst/>
            <a:rect l="l" t="t" r="r" b="b"/>
            <a:pathLst>
              <a:path w="1904" h="1618">
                <a:moveTo>
                  <a:pt x="1904" y="920"/>
                </a:moveTo>
                <a:cubicBezTo>
                  <a:pt x="512" y="872"/>
                  <a:pt x="800" y="1618"/>
                  <a:pt x="416" y="1592"/>
                </a:cubicBezTo>
                <a:cubicBezTo>
                  <a:pt x="176" y="1576"/>
                  <a:pt x="96" y="104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135920" y="3736800"/>
            <a:ext cx="33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3662280"/>
            <a:ext cx="438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058160" y="358308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37280" y="3503520"/>
            <a:ext cx="5716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21440" y="3429000"/>
            <a:ext cx="64620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381800" y="3068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165800" y="3502080"/>
            <a:ext cx="0" cy="158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Ion-molecul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range attraction: ion-(induced) dipole ~ 1/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at low T if reaction is exother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07960" y="3840120"/>
            <a:ext cx="3108240" cy="1808280"/>
            <a:chOff x="507960" y="3840120"/>
            <a:chExt cx="3108240" cy="1808280"/>
          </a:xfrm>
        </p:grpSpPr>
        <p:sp>
          <p:nvSpPr>
            <p:cNvPr id="470" name=""/>
            <p:cNvSpPr/>
            <p:nvPr/>
          </p:nvSpPr>
          <p:spPr>
            <a:xfrm rot="10800000">
              <a:off x="560520" y="4272120"/>
              <a:ext cx="3055680" cy="985680"/>
            </a:xfrm>
            <a:custGeom>
              <a:avLst/>
              <a:gdLst/>
              <a:ahLst/>
              <a:rect l="l" t="t" r="r" b="b"/>
              <a:pathLst>
                <a:path w="1412" h="867">
                  <a:moveTo>
                    <a:pt x="52" y="368"/>
                  </a:moveTo>
                  <a:cubicBezTo>
                    <a:pt x="114" y="367"/>
                    <a:pt x="0" y="360"/>
                    <a:pt x="424" y="360"/>
                  </a:cubicBezTo>
                  <a:cubicBezTo>
                    <a:pt x="545" y="362"/>
                    <a:pt x="528" y="0"/>
                    <a:pt x="687" y="5"/>
                  </a:cubicBezTo>
                  <a:cubicBezTo>
                    <a:pt x="846" y="10"/>
                    <a:pt x="886" y="594"/>
                    <a:pt x="992" y="730"/>
                  </a:cubicBezTo>
                  <a:cubicBezTo>
                    <a:pt x="1113" y="867"/>
                    <a:pt x="1325" y="806"/>
                    <a:pt x="1412" y="82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960" y="3840120"/>
              <a:ext cx="965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de-DE" sz="18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 + Y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6680" y="4416480"/>
              <a:ext cx="96588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XY</a:t>
              </a:r>
              <a:r>
                <a:rPr b="0" lang="de-DE" sz="18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 +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5400" y="5280120"/>
              <a:ext cx="7034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XYZ</a:t>
              </a:r>
              <a:r>
                <a:rPr b="0" lang="de-DE" sz="18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72000" y="386064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llision energy in ISM ~ 0.01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alculation of collision cross section via potential surface calculation requires high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4724280"/>
            <a:ext cx="647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6920" y="33559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51640" y="4653000"/>
            <a:ext cx="504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43280" y="3573360"/>
            <a:ext cx="433440" cy="1511280"/>
          </a:xfrm>
          <a:custGeom>
            <a:avLst/>
            <a:gdLst>
              <a:gd name="textAreaLeft" fmla="*/ 276840 w 433440"/>
              <a:gd name="textAreaRight" fmla="*/ 433800 w 4334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26720" y="409716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mpact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7.40741E-007 L 0.54132 7.40741E-007 E">
                                      <p:cBhvr>
                                        <p:cTn id="60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132 7.40741E-007 C 0.76562 7.40741E-007 0.94913 0.1669 0.94913 0.37292 E">
                                      <p:cBhvr>
                                        <p:cTn id="82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4" dur="1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53080" y="4724280"/>
            <a:ext cx="647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26920" y="371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24360" y="4653000"/>
            <a:ext cx="5050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3933720"/>
            <a:ext cx="433440" cy="1150920"/>
          </a:xfrm>
          <a:custGeom>
            <a:avLst/>
            <a:gdLst>
              <a:gd name="textAreaLeft" fmla="*/ 276840 w 433440"/>
              <a:gd name="textAreaRight" fmla="*/ 433800 w 433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78880" y="4292640"/>
            <a:ext cx="1626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ritical imp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rameter 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978520" y="4076640"/>
            <a:ext cx="0" cy="576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4.44444E-006 L 0.54132 4.44444E-006 E">
                                      <p:cBhvr>
                                        <p:cTn id="90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54132 4.44444E-006 C 0.61025 4.44444E-006 0.66632 0.07476 0.66632 0.16666 C 0.66632 0.25856 0.61025 0.33333 0.54132 0.33333 C 0.4724 0.33333 0.41632 0.25856 0.41632 0.16666 C 0.41632 0.07476 0.4724 4.44444E-006 0.54132 4.44444E-006 Z">
                                      <p:cBhvr>
                                        <p:cTn id="119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53080" y="4724280"/>
            <a:ext cx="647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724360" y="4653000"/>
            <a:ext cx="5050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933720"/>
            <a:ext cx="433440" cy="1150920"/>
          </a:xfrm>
          <a:custGeom>
            <a:avLst/>
            <a:gdLst>
              <a:gd name="textAreaLeft" fmla="*/ 276840 w 433440"/>
              <a:gd name="textAreaRight" fmla="*/ 433800 w 433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78880" y="4292640"/>
            <a:ext cx="1626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ritical imp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rameter 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978520" y="4076640"/>
            <a:ext cx="0" cy="576360"/>
          </a:xfrm>
          <a:prstGeom prst="line">
            <a:avLst/>
          </a:prstGeom>
          <a:ln w="5724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55640" y="3213000"/>
            <a:ext cx="503280" cy="863640"/>
            <a:chOff x="755640" y="3213000"/>
            <a:chExt cx="503280" cy="863640"/>
          </a:xfrm>
        </p:grpSpPr>
        <p:sp>
          <p:nvSpPr>
            <p:cNvPr id="495" name=""/>
            <p:cNvSpPr/>
            <p:nvPr/>
          </p:nvSpPr>
          <p:spPr>
            <a:xfrm>
              <a:off x="826920" y="3716280"/>
              <a:ext cx="3603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5640" y="3213000"/>
              <a:ext cx="503280" cy="5032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796000" y="37036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4360" y="3200400"/>
            <a:ext cx="503280" cy="503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266800">
            <a:off x="5723640" y="3356640"/>
            <a:ext cx="431640" cy="57600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54271 -1.48148E-006 E">
                                      <p:cBhvr>
                                        <p:cTn id="125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68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2824 L 0.39705 -0.475 E">
                                      <p:cBhvr>
                                        <p:cTn id="170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826920" y="1628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6892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108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71640" y="1360440"/>
            <a:ext cx="2016000" cy="1492200"/>
            <a:chOff x="971640" y="1360440"/>
            <a:chExt cx="2016000" cy="1492200"/>
          </a:xfrm>
        </p:grpSpPr>
        <p:sp>
          <p:nvSpPr>
            <p:cNvPr id="506" name=""/>
            <p:cNvSpPr/>
            <p:nvPr/>
          </p:nvSpPr>
          <p:spPr>
            <a:xfrm>
              <a:off x="971640" y="1484280"/>
              <a:ext cx="2016000" cy="1368360"/>
            </a:xfrm>
            <a:custGeom>
              <a:avLst/>
              <a:gdLst/>
              <a:ahLst/>
              <a:rect l="l" t="t" r="r" b="b"/>
              <a:pathLst>
                <a:path w="1270" h="862">
                  <a:moveTo>
                    <a:pt x="0" y="0"/>
                  </a:moveTo>
                  <a:cubicBezTo>
                    <a:pt x="124" y="457"/>
                    <a:pt x="164" y="513"/>
                    <a:pt x="431" y="689"/>
                  </a:cubicBezTo>
                  <a:cubicBezTo>
                    <a:pt x="647" y="827"/>
                    <a:pt x="1095" y="826"/>
                    <a:pt x="1270" y="86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02680" y="136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123440" y="1700280"/>
            <a:ext cx="3736440" cy="839880"/>
            <a:chOff x="4123440" y="1700280"/>
            <a:chExt cx="3736440" cy="839880"/>
          </a:xfrm>
        </p:grpSpPr>
        <p:sp>
          <p:nvSpPr>
            <p:cNvPr id="509" name=""/>
            <p:cNvSpPr/>
            <p:nvPr/>
          </p:nvSpPr>
          <p:spPr>
            <a:xfrm>
              <a:off x="4123440" y="200808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entrifugal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0" name=""/>
            <p:cNvGraphicFramePr/>
            <p:nvPr/>
          </p:nvGraphicFramePr>
          <p:xfrm>
            <a:off x="6359400" y="1700280"/>
            <a:ext cx="1500480" cy="83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59400" y="1700280"/>
                      <a:ext cx="150048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2" name=""/>
          <p:cNvGrpSpPr/>
          <p:nvPr/>
        </p:nvGrpSpPr>
        <p:grpSpPr>
          <a:xfrm>
            <a:off x="1003320" y="3251160"/>
            <a:ext cx="1917720" cy="1231200"/>
            <a:chOff x="1003320" y="3251160"/>
            <a:chExt cx="1917720" cy="1231200"/>
          </a:xfrm>
        </p:grpSpPr>
        <p:sp>
          <p:nvSpPr>
            <p:cNvPr id="513" name=""/>
            <p:cNvSpPr/>
            <p:nvPr/>
          </p:nvSpPr>
          <p:spPr>
            <a:xfrm>
              <a:off x="1003320" y="3251160"/>
              <a:ext cx="1917720" cy="1104840"/>
            </a:xfrm>
            <a:custGeom>
              <a:avLst/>
              <a:gdLst/>
              <a:ahLst/>
              <a:rect l="l" t="t" r="r" b="b"/>
              <a:pathLst>
                <a:path w="1208" h="696">
                  <a:moveTo>
                    <a:pt x="1208" y="0"/>
                  </a:moveTo>
                  <a:cubicBezTo>
                    <a:pt x="1091" y="13"/>
                    <a:pt x="649" y="39"/>
                    <a:pt x="456" y="144"/>
                  </a:cubicBezTo>
                  <a:cubicBezTo>
                    <a:pt x="275" y="235"/>
                    <a:pt x="95" y="581"/>
                    <a:pt x="0" y="69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68280" y="407664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52560" y="2708280"/>
            <a:ext cx="1968480" cy="1584360"/>
            <a:chOff x="952560" y="2708280"/>
            <a:chExt cx="1968480" cy="1584360"/>
          </a:xfrm>
        </p:grpSpPr>
        <p:sp>
          <p:nvSpPr>
            <p:cNvPr id="516" name=""/>
            <p:cNvSpPr/>
            <p:nvPr/>
          </p:nvSpPr>
          <p:spPr>
            <a:xfrm>
              <a:off x="952560" y="2717640"/>
              <a:ext cx="1968480" cy="1575000"/>
            </a:xfrm>
            <a:custGeom>
              <a:avLst/>
              <a:gdLst/>
              <a:ahLst/>
              <a:rect l="l" t="t" r="r" b="b"/>
              <a:pathLst>
                <a:path w="1240" h="992">
                  <a:moveTo>
                    <a:pt x="1240" y="232"/>
                  </a:moveTo>
                  <a:cubicBezTo>
                    <a:pt x="928" y="184"/>
                    <a:pt x="816" y="192"/>
                    <a:pt x="632" y="96"/>
                  </a:cubicBezTo>
                  <a:cubicBezTo>
                    <a:pt x="448" y="0"/>
                    <a:pt x="108" y="852"/>
                    <a:pt x="0" y="9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29680" y="2708280"/>
              <a:ext cx="47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197600" y="2637000"/>
            <a:ext cx="3649320" cy="839520"/>
            <a:chOff x="4197600" y="2637000"/>
            <a:chExt cx="3649320" cy="839520"/>
          </a:xfrm>
        </p:grpSpPr>
        <p:sp>
          <p:nvSpPr>
            <p:cNvPr id="519" name=""/>
            <p:cNvSpPr/>
            <p:nvPr/>
          </p:nvSpPr>
          <p:spPr>
            <a:xfrm>
              <a:off x="4197600" y="287352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ion induced 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0" name=""/>
            <p:cNvGraphicFramePr/>
            <p:nvPr/>
          </p:nvGraphicFramePr>
          <p:xfrm>
            <a:off x="6372360" y="2637000"/>
            <a:ext cx="1474560" cy="83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72360" y="2637000"/>
                      <a:ext cx="1474560" cy="83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2" name=""/>
          <p:cNvGraphicFramePr/>
          <p:nvPr/>
        </p:nvGraphicFramePr>
        <p:xfrm>
          <a:off x="4284720" y="3860640"/>
          <a:ext cx="261936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860640"/>
                    <a:ext cx="26193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255240" y="5516640"/>
            <a:ext cx="55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µ: reduced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: polarizability (~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= m b v : angular momentum in centrifugal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826920" y="1628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96892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108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971640" y="1360440"/>
            <a:ext cx="2016000" cy="1492200"/>
            <a:chOff x="971640" y="1360440"/>
            <a:chExt cx="2016000" cy="1492200"/>
          </a:xfrm>
        </p:grpSpPr>
        <p:sp>
          <p:nvSpPr>
            <p:cNvPr id="531" name=""/>
            <p:cNvSpPr/>
            <p:nvPr/>
          </p:nvSpPr>
          <p:spPr>
            <a:xfrm>
              <a:off x="971640" y="1484280"/>
              <a:ext cx="2016000" cy="1368360"/>
            </a:xfrm>
            <a:custGeom>
              <a:avLst/>
              <a:gdLst/>
              <a:ahLst/>
              <a:rect l="l" t="t" r="r" b="b"/>
              <a:pathLst>
                <a:path w="1270" h="862">
                  <a:moveTo>
                    <a:pt x="0" y="0"/>
                  </a:moveTo>
                  <a:cubicBezTo>
                    <a:pt x="124" y="457"/>
                    <a:pt x="164" y="513"/>
                    <a:pt x="431" y="689"/>
                  </a:cubicBezTo>
                  <a:cubicBezTo>
                    <a:pt x="647" y="827"/>
                    <a:pt x="1095" y="826"/>
                    <a:pt x="1270" y="86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02680" y="136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003320" y="3251160"/>
            <a:ext cx="1917720" cy="1231200"/>
            <a:chOff x="1003320" y="3251160"/>
            <a:chExt cx="1917720" cy="1231200"/>
          </a:xfrm>
        </p:grpSpPr>
        <p:sp>
          <p:nvSpPr>
            <p:cNvPr id="534" name=""/>
            <p:cNvSpPr/>
            <p:nvPr/>
          </p:nvSpPr>
          <p:spPr>
            <a:xfrm>
              <a:off x="1003320" y="3251160"/>
              <a:ext cx="1917720" cy="1104840"/>
            </a:xfrm>
            <a:custGeom>
              <a:avLst/>
              <a:gdLst/>
              <a:ahLst/>
              <a:rect l="l" t="t" r="r" b="b"/>
              <a:pathLst>
                <a:path w="1208" h="696">
                  <a:moveTo>
                    <a:pt x="1208" y="0"/>
                  </a:moveTo>
                  <a:cubicBezTo>
                    <a:pt x="1091" y="13"/>
                    <a:pt x="649" y="39"/>
                    <a:pt x="456" y="144"/>
                  </a:cubicBezTo>
                  <a:cubicBezTo>
                    <a:pt x="275" y="235"/>
                    <a:pt x="95" y="581"/>
                    <a:pt x="0" y="69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68280" y="407664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952560" y="2708280"/>
            <a:ext cx="1968480" cy="1584360"/>
            <a:chOff x="952560" y="2708280"/>
            <a:chExt cx="1968480" cy="1584360"/>
          </a:xfrm>
        </p:grpSpPr>
        <p:sp>
          <p:nvSpPr>
            <p:cNvPr id="537" name=""/>
            <p:cNvSpPr/>
            <p:nvPr/>
          </p:nvSpPr>
          <p:spPr>
            <a:xfrm>
              <a:off x="952560" y="2717640"/>
              <a:ext cx="1968480" cy="1575000"/>
            </a:xfrm>
            <a:custGeom>
              <a:avLst/>
              <a:gdLst/>
              <a:ahLst/>
              <a:rect l="l" t="t" r="r" b="b"/>
              <a:pathLst>
                <a:path w="1240" h="992">
                  <a:moveTo>
                    <a:pt x="1240" y="232"/>
                  </a:moveTo>
                  <a:cubicBezTo>
                    <a:pt x="928" y="184"/>
                    <a:pt x="816" y="192"/>
                    <a:pt x="632" y="96"/>
                  </a:cubicBezTo>
                  <a:cubicBezTo>
                    <a:pt x="448" y="0"/>
                    <a:pt x="108" y="852"/>
                    <a:pt x="0" y="9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29680" y="2708280"/>
              <a:ext cx="47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"/>
          <p:cNvGraphicFramePr/>
          <p:nvPr/>
        </p:nvGraphicFramePr>
        <p:xfrm>
          <a:off x="3851280" y="1413000"/>
          <a:ext cx="261936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13000"/>
                    <a:ext cx="261936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635280" y="2565360"/>
          <a:ext cx="52070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2565360"/>
                    <a:ext cx="5207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3" name=""/>
          <p:cNvGrpSpPr/>
          <p:nvPr/>
        </p:nvGrpSpPr>
        <p:grpSpPr>
          <a:xfrm>
            <a:off x="1558080" y="2852640"/>
            <a:ext cx="455040" cy="621720"/>
            <a:chOff x="1558080" y="2852640"/>
            <a:chExt cx="455040" cy="621720"/>
          </a:xfrm>
        </p:grpSpPr>
        <p:sp>
          <p:nvSpPr>
            <p:cNvPr id="544" name=""/>
            <p:cNvSpPr/>
            <p:nvPr/>
          </p:nvSpPr>
          <p:spPr>
            <a:xfrm>
              <a:off x="1908000" y="2852640"/>
              <a:ext cx="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58080" y="3068640"/>
              <a:ext cx="45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08000" y="2852640"/>
            <a:ext cx="1359000" cy="1311120"/>
            <a:chOff x="1908000" y="2852640"/>
            <a:chExt cx="1359000" cy="1311120"/>
          </a:xfrm>
        </p:grpSpPr>
        <p:sp>
          <p:nvSpPr>
            <p:cNvPr id="547" name=""/>
            <p:cNvSpPr/>
            <p:nvPr/>
          </p:nvSpPr>
          <p:spPr>
            <a:xfrm>
              <a:off x="2034720" y="3521160"/>
              <a:ext cx="12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entrifugal</a:t>
              </a:r>
              <a:br>
                <a:rPr sz="1800"/>
              </a:b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08000" y="2852640"/>
              <a:ext cx="5032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619080" y="366408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rrier can only be surmount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284720" y="4292640"/>
          <a:ext cx="25653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292640"/>
                    <a:ext cx="2565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4788000" y="5300640"/>
          <a:ext cx="1823760" cy="10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5300640"/>
                    <a:ext cx="182376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1045440" y="558972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itical impact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26920" y="1628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6892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108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971640" y="1360440"/>
            <a:ext cx="2016000" cy="1492200"/>
            <a:chOff x="971640" y="1360440"/>
            <a:chExt cx="2016000" cy="1492200"/>
          </a:xfrm>
        </p:grpSpPr>
        <p:sp>
          <p:nvSpPr>
            <p:cNvPr id="561" name=""/>
            <p:cNvSpPr/>
            <p:nvPr/>
          </p:nvSpPr>
          <p:spPr>
            <a:xfrm>
              <a:off x="971640" y="1484280"/>
              <a:ext cx="2016000" cy="1368360"/>
            </a:xfrm>
            <a:custGeom>
              <a:avLst/>
              <a:gdLst/>
              <a:ahLst/>
              <a:rect l="l" t="t" r="r" b="b"/>
              <a:pathLst>
                <a:path w="1270" h="862">
                  <a:moveTo>
                    <a:pt x="0" y="0"/>
                  </a:moveTo>
                  <a:cubicBezTo>
                    <a:pt x="124" y="457"/>
                    <a:pt x="164" y="513"/>
                    <a:pt x="431" y="689"/>
                  </a:cubicBezTo>
                  <a:cubicBezTo>
                    <a:pt x="647" y="827"/>
                    <a:pt x="1095" y="826"/>
                    <a:pt x="1270" y="86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02680" y="136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03320" y="3251160"/>
            <a:ext cx="1917720" cy="1231200"/>
            <a:chOff x="1003320" y="3251160"/>
            <a:chExt cx="1917720" cy="1231200"/>
          </a:xfrm>
        </p:grpSpPr>
        <p:sp>
          <p:nvSpPr>
            <p:cNvPr id="564" name=""/>
            <p:cNvSpPr/>
            <p:nvPr/>
          </p:nvSpPr>
          <p:spPr>
            <a:xfrm>
              <a:off x="1003320" y="3251160"/>
              <a:ext cx="1917720" cy="1104840"/>
            </a:xfrm>
            <a:custGeom>
              <a:avLst/>
              <a:gdLst/>
              <a:ahLst/>
              <a:rect l="l" t="t" r="r" b="b"/>
              <a:pathLst>
                <a:path w="1208" h="696">
                  <a:moveTo>
                    <a:pt x="1208" y="0"/>
                  </a:moveTo>
                  <a:cubicBezTo>
                    <a:pt x="1091" y="13"/>
                    <a:pt x="649" y="39"/>
                    <a:pt x="456" y="144"/>
                  </a:cubicBezTo>
                  <a:cubicBezTo>
                    <a:pt x="275" y="235"/>
                    <a:pt x="95" y="581"/>
                    <a:pt x="0" y="69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68280" y="407664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952560" y="2708280"/>
            <a:ext cx="1968480" cy="1584360"/>
            <a:chOff x="952560" y="2708280"/>
            <a:chExt cx="1968480" cy="1584360"/>
          </a:xfrm>
        </p:grpSpPr>
        <p:sp>
          <p:nvSpPr>
            <p:cNvPr id="567" name=""/>
            <p:cNvSpPr/>
            <p:nvPr/>
          </p:nvSpPr>
          <p:spPr>
            <a:xfrm>
              <a:off x="952560" y="2717640"/>
              <a:ext cx="1968480" cy="1575000"/>
            </a:xfrm>
            <a:custGeom>
              <a:avLst/>
              <a:gdLst/>
              <a:ahLst/>
              <a:rect l="l" t="t" r="r" b="b"/>
              <a:pathLst>
                <a:path w="1240" h="992">
                  <a:moveTo>
                    <a:pt x="1240" y="232"/>
                  </a:moveTo>
                  <a:cubicBezTo>
                    <a:pt x="928" y="184"/>
                    <a:pt x="816" y="192"/>
                    <a:pt x="632" y="96"/>
                  </a:cubicBezTo>
                  <a:cubicBezTo>
                    <a:pt x="448" y="0"/>
                    <a:pt x="108" y="852"/>
                    <a:pt x="0" y="9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29680" y="2708280"/>
              <a:ext cx="47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558080" y="2852640"/>
            <a:ext cx="455040" cy="621720"/>
            <a:chOff x="1558080" y="2852640"/>
            <a:chExt cx="455040" cy="621720"/>
          </a:xfrm>
        </p:grpSpPr>
        <p:sp>
          <p:nvSpPr>
            <p:cNvPr id="570" name=""/>
            <p:cNvSpPr/>
            <p:nvPr/>
          </p:nvSpPr>
          <p:spPr>
            <a:xfrm>
              <a:off x="1908000" y="2852640"/>
              <a:ext cx="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58080" y="3068640"/>
              <a:ext cx="45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908000" y="2852640"/>
            <a:ext cx="1359000" cy="1311120"/>
            <a:chOff x="1908000" y="2852640"/>
            <a:chExt cx="1359000" cy="1311120"/>
          </a:xfrm>
        </p:grpSpPr>
        <p:sp>
          <p:nvSpPr>
            <p:cNvPr id="573" name=""/>
            <p:cNvSpPr/>
            <p:nvPr/>
          </p:nvSpPr>
          <p:spPr>
            <a:xfrm>
              <a:off x="2034720" y="3521160"/>
              <a:ext cx="12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entrifugal</a:t>
              </a:r>
              <a:br>
                <a:rPr sz="1800"/>
              </a:b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2852640"/>
              <a:ext cx="5032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421440" y="1773360"/>
            <a:ext cx="5567040" cy="1063440"/>
            <a:chOff x="3421440" y="1773360"/>
            <a:chExt cx="5567040" cy="1063440"/>
          </a:xfrm>
        </p:grpSpPr>
        <p:graphicFrame>
          <p:nvGraphicFramePr>
            <p:cNvPr id="576" name=""/>
            <p:cNvGraphicFramePr/>
            <p:nvPr/>
          </p:nvGraphicFramePr>
          <p:xfrm>
            <a:off x="7164360" y="1773360"/>
            <a:ext cx="1824120" cy="106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4360" y="1773360"/>
                      <a:ext cx="1824120" cy="10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8" name=""/>
            <p:cNvSpPr/>
            <p:nvPr/>
          </p:nvSpPr>
          <p:spPr>
            <a:xfrm>
              <a:off x="3421440" y="2133360"/>
              <a:ext cx="35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critical impact paramet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565080" y="3645000"/>
            <a:ext cx="4804200" cy="482400"/>
            <a:chOff x="3565080" y="3645000"/>
            <a:chExt cx="4804200" cy="482400"/>
          </a:xfrm>
        </p:grpSpPr>
        <p:sp>
          <p:nvSpPr>
            <p:cNvPr id="580" name=""/>
            <p:cNvSpPr/>
            <p:nvPr/>
          </p:nvSpPr>
          <p:spPr>
            <a:xfrm>
              <a:off x="3565080" y="366372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cross section for reac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7329240" y="3645000"/>
            <a:ext cx="10400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29240" y="3645000"/>
                      <a:ext cx="10400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3" name=""/>
          <p:cNvGrpSpPr/>
          <p:nvPr/>
        </p:nvGrpSpPr>
        <p:grpSpPr>
          <a:xfrm>
            <a:off x="1964880" y="4941720"/>
            <a:ext cx="5739120" cy="1478520"/>
            <a:chOff x="1964880" y="4941720"/>
            <a:chExt cx="5739120" cy="1478520"/>
          </a:xfrm>
        </p:grpSpPr>
        <p:sp>
          <p:nvSpPr>
            <p:cNvPr id="584" name=""/>
            <p:cNvSpPr/>
            <p:nvPr/>
          </p:nvSpPr>
          <p:spPr>
            <a:xfrm>
              <a:off x="1964880" y="5229000"/>
              <a:ext cx="49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collision frequenc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k ~ 10</a:t>
              </a:r>
              <a:r>
                <a:rPr b="0" lang="de-DE" sz="2400" spc="-1" strike="noStrike" baseline="30000">
                  <a:solidFill>
                    <a:srgbClr val="ffffff"/>
                  </a:solidFill>
                  <a:latin typeface="Arial"/>
                </a:rPr>
                <a:t>-9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0" lang="de-DE" sz="2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de-DE" sz="2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,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ependent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 of 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5" name=""/>
            <p:cNvGraphicFramePr/>
            <p:nvPr/>
          </p:nvGraphicFramePr>
          <p:xfrm>
            <a:off x="4709880" y="4941720"/>
            <a:ext cx="2994120" cy="106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09880" y="4941720"/>
                      <a:ext cx="29941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87" name="" descr=""/>
          <p:cNvPicPr/>
          <p:nvPr/>
        </p:nvPicPr>
        <p:blipFill>
          <a:blip r:embed="rId7"/>
          <a:stretch/>
        </p:blipFill>
        <p:spPr>
          <a:xfrm>
            <a:off x="7740720" y="4005360"/>
            <a:ext cx="1200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26920" y="1628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6892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108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971640" y="1360440"/>
            <a:ext cx="2016000" cy="1492200"/>
            <a:chOff x="971640" y="1360440"/>
            <a:chExt cx="2016000" cy="1492200"/>
          </a:xfrm>
        </p:grpSpPr>
        <p:sp>
          <p:nvSpPr>
            <p:cNvPr id="594" name=""/>
            <p:cNvSpPr/>
            <p:nvPr/>
          </p:nvSpPr>
          <p:spPr>
            <a:xfrm>
              <a:off x="971640" y="1484280"/>
              <a:ext cx="2016000" cy="1368360"/>
            </a:xfrm>
            <a:custGeom>
              <a:avLst/>
              <a:gdLst/>
              <a:ahLst/>
              <a:rect l="l" t="t" r="r" b="b"/>
              <a:pathLst>
                <a:path w="1270" h="862">
                  <a:moveTo>
                    <a:pt x="0" y="0"/>
                  </a:moveTo>
                  <a:cubicBezTo>
                    <a:pt x="124" y="457"/>
                    <a:pt x="164" y="513"/>
                    <a:pt x="431" y="689"/>
                  </a:cubicBezTo>
                  <a:cubicBezTo>
                    <a:pt x="647" y="827"/>
                    <a:pt x="1095" y="826"/>
                    <a:pt x="1270" y="86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02680" y="136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003320" y="3251160"/>
            <a:ext cx="1917720" cy="1231200"/>
            <a:chOff x="1003320" y="3251160"/>
            <a:chExt cx="1917720" cy="1231200"/>
          </a:xfrm>
        </p:grpSpPr>
        <p:sp>
          <p:nvSpPr>
            <p:cNvPr id="597" name=""/>
            <p:cNvSpPr/>
            <p:nvPr/>
          </p:nvSpPr>
          <p:spPr>
            <a:xfrm>
              <a:off x="1003320" y="3251160"/>
              <a:ext cx="1917720" cy="1104840"/>
            </a:xfrm>
            <a:custGeom>
              <a:avLst/>
              <a:gdLst/>
              <a:ahLst/>
              <a:rect l="l" t="t" r="r" b="b"/>
              <a:pathLst>
                <a:path w="1208" h="696">
                  <a:moveTo>
                    <a:pt x="1208" y="0"/>
                  </a:moveTo>
                  <a:cubicBezTo>
                    <a:pt x="1091" y="13"/>
                    <a:pt x="649" y="39"/>
                    <a:pt x="456" y="144"/>
                  </a:cubicBezTo>
                  <a:cubicBezTo>
                    <a:pt x="275" y="235"/>
                    <a:pt x="95" y="581"/>
                    <a:pt x="0" y="69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68280" y="4076640"/>
              <a:ext cx="43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2560" y="2708280"/>
            <a:ext cx="1968480" cy="1584360"/>
            <a:chOff x="952560" y="2708280"/>
            <a:chExt cx="1968480" cy="1584360"/>
          </a:xfrm>
        </p:grpSpPr>
        <p:sp>
          <p:nvSpPr>
            <p:cNvPr id="600" name=""/>
            <p:cNvSpPr/>
            <p:nvPr/>
          </p:nvSpPr>
          <p:spPr>
            <a:xfrm>
              <a:off x="952560" y="2717640"/>
              <a:ext cx="1968480" cy="1575000"/>
            </a:xfrm>
            <a:custGeom>
              <a:avLst/>
              <a:gdLst/>
              <a:ahLst/>
              <a:rect l="l" t="t" r="r" b="b"/>
              <a:pathLst>
                <a:path w="1240" h="992">
                  <a:moveTo>
                    <a:pt x="1240" y="232"/>
                  </a:moveTo>
                  <a:cubicBezTo>
                    <a:pt x="928" y="184"/>
                    <a:pt x="816" y="192"/>
                    <a:pt x="632" y="96"/>
                  </a:cubicBezTo>
                  <a:cubicBezTo>
                    <a:pt x="448" y="0"/>
                    <a:pt x="108" y="852"/>
                    <a:pt x="0" y="9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29680" y="2708280"/>
              <a:ext cx="47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558080" y="2852640"/>
            <a:ext cx="455040" cy="621720"/>
            <a:chOff x="1558080" y="2852640"/>
            <a:chExt cx="455040" cy="621720"/>
          </a:xfrm>
        </p:grpSpPr>
        <p:sp>
          <p:nvSpPr>
            <p:cNvPr id="603" name=""/>
            <p:cNvSpPr/>
            <p:nvPr/>
          </p:nvSpPr>
          <p:spPr>
            <a:xfrm>
              <a:off x="1908000" y="2852640"/>
              <a:ext cx="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58080" y="3068640"/>
              <a:ext cx="45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908000" y="2852640"/>
            <a:ext cx="1359000" cy="1311120"/>
            <a:chOff x="1908000" y="2852640"/>
            <a:chExt cx="1359000" cy="1311120"/>
          </a:xfrm>
        </p:grpSpPr>
        <p:sp>
          <p:nvSpPr>
            <p:cNvPr id="606" name=""/>
            <p:cNvSpPr/>
            <p:nvPr/>
          </p:nvSpPr>
          <p:spPr>
            <a:xfrm>
              <a:off x="2034720" y="3521160"/>
              <a:ext cx="12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centrifugal</a:t>
              </a:r>
              <a:br>
                <a:rPr sz="1800"/>
              </a:b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08000" y="2852640"/>
              <a:ext cx="50328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76720" y="1557360"/>
            <a:ext cx="58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ossible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YZ  → XY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Z    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→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X + YZ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charg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        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ny experiments performed at room T, some at low T. Most reactions proceed at Langevin rate, but some exceptions kn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1280" y="5084640"/>
            <a:ext cx="8083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ate coefficients for 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ion-polar molecu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reactions may be factors of 10-100 larger than Langevin values at low T, because V(R)~R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-2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eg. C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OH → CO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H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CS → HCS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are very different from those, normally found in chemistry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temperatures and low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have low energies and are far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2-body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exotherm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tivation energy barr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reactions ar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on’t expect to find many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ca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oll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≈ 1 month at n≈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≈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≈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ong range attraction: weak van der Waals interaction ~1/R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6 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Woon &amp; Herbst `97)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ample: CN + C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→H + HC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3924360" y="3860640"/>
          <a:ext cx="2666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860640"/>
                    <a:ext cx="2666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837360" y="4005360"/>
            <a:ext cx="26557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: dipole moment of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: polarizability of 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: polarizability of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   : ionization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6588000" y="5013360"/>
          <a:ext cx="23367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5013360"/>
                    <a:ext cx="2336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3568680" y="5157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spers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p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954160" y="1654200"/>
          <a:ext cx="21592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1654200"/>
                    <a:ext cx="2159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00000" y="2565360"/>
          <a:ext cx="693432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565360"/>
                    <a:ext cx="69343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1461960" y="4149720"/>
            <a:ext cx="188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-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&lt;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-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35280" y="4005360"/>
            <a:ext cx="1657080" cy="8636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2400" y="4221000"/>
            <a:ext cx="37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utral-neutr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important (exce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ctions with radic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pari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ple hard sphere collision without electromagnet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43280" y="4653000"/>
            <a:ext cx="720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371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4360" y="4437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97257 4.44444E-006 E">
                                      <p:cBhvr>
                                        <p:cTn id="222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0.41337 1.85185E-006 E">
                                      <p:cBhvr>
                                        <p:cTn id="230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pari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ple hard sphere collision without electromagnet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Bohr‘s radius: r = 5.3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m = 5.3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0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=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= R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6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, v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c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2   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ion-neutral 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9     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neutral-neutral 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1   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580000" y="4581360"/>
            <a:ext cx="3182040" cy="1008360"/>
            <a:chOff x="5580000" y="4581360"/>
            <a:chExt cx="3182040" cy="1008360"/>
          </a:xfrm>
        </p:grpSpPr>
        <p:grpSp>
          <p:nvGrpSpPr>
            <p:cNvPr id="635" name=""/>
            <p:cNvGrpSpPr/>
            <p:nvPr/>
          </p:nvGrpSpPr>
          <p:grpSpPr>
            <a:xfrm>
              <a:off x="5580000" y="4581360"/>
              <a:ext cx="1698840" cy="505080"/>
              <a:chOff x="5580000" y="4581360"/>
              <a:chExt cx="1698840" cy="50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5580000" y="4581360"/>
                <a:ext cx="287280" cy="505080"/>
              </a:xfrm>
              <a:custGeom>
                <a:avLst/>
                <a:gdLst>
                  <a:gd name="textAreaLeft" fmla="*/ 0 w 287280"/>
                  <a:gd name="textAreaRight" fmla="*/ 103680 w 287280"/>
                  <a:gd name="textAreaTop" fmla="*/ 12960 h 505080"/>
                  <a:gd name="textAreaBottom" fmla="*/ 49212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99160" y="4653000"/>
                <a:ext cx="15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Factor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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7308720" y="4653000"/>
              <a:ext cx="1453320" cy="936720"/>
              <a:chOff x="7308720" y="4653000"/>
              <a:chExt cx="1453320" cy="936720"/>
            </a:xfrm>
          </p:grpSpPr>
          <p:sp>
            <p:nvSpPr>
              <p:cNvPr id="639" name=""/>
              <p:cNvSpPr/>
              <p:nvPr/>
            </p:nvSpPr>
            <p:spPr>
              <a:xfrm>
                <a:off x="7308720" y="4653000"/>
                <a:ext cx="287640" cy="936720"/>
              </a:xfrm>
              <a:custGeom>
                <a:avLst/>
                <a:gdLst>
                  <a:gd name="textAreaLeft" fmla="*/ 0 w 287640"/>
                  <a:gd name="textAreaRight" fmla="*/ 103680 w 287640"/>
                  <a:gd name="textAreaTop" fmla="*/ 24120 h 936720"/>
                  <a:gd name="textAreaBottom" fmla="*/ 9126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99160" y="4941720"/>
                <a:ext cx="126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Factor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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parison of effective cross section and ra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assumption: v=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cm s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40000" y="2637000"/>
          <a:ext cx="6095880" cy="2336760"/>
        </p:xfrm>
        <a:graphic>
          <a:graphicData uri="http://schemas.openxmlformats.org/drawingml/2006/table">
            <a:tbl>
              <a:tblPr/>
              <a:tblGrid>
                <a:gridCol w="3097080"/>
                <a:gridCol w="1728720"/>
                <a:gridCol w="127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c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cm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-neu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ral-neu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55640" y="2924280"/>
          <a:ext cx="1093680" cy="17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24280"/>
                    <a:ext cx="10936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684360" y="5084640"/>
            <a:ext cx="83008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- dipole induction enlarges the effective target radius by a factor of 20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- van der Waals induction enlarges r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e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by ~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diabatic capture approximation (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f collision energy &lt; V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e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R)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eact. prob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f collision energy &gt; V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Arial"/>
              </a:rPr>
              <a:t>eff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R)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eact. prob=1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ignores angular dependencies, short range effects, quantum effects, activation ener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ith AC theory, the rate coefficien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627280" y="5084640"/>
          <a:ext cx="32288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084640"/>
                    <a:ext cx="32288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earran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187280" y="1413000"/>
          <a:ext cx="6534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5343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1116000" y="2205000"/>
          <a:ext cx="7272360" cy="3189240"/>
        </p:xfrm>
        <a:graphic>
          <a:graphicData uri="http://schemas.openxmlformats.org/drawingml/2006/table">
            <a:tbl>
              <a:tblPr/>
              <a:tblGrid>
                <a:gridCol w="3382920"/>
                <a:gridCol w="649440"/>
                <a:gridCol w="324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T depen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ge-induced dip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ge-dip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ge-quadrup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ole-dip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ole-quadrup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er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5" name=""/>
          <p:cNvSpPr/>
          <p:nvPr/>
        </p:nvSpPr>
        <p:spPr>
          <a:xfrm>
            <a:off x="291960" y="56610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utral-neutral reactions typically factor 5 smaller than ion-molecule reactions at low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ate coefficient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[cm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ate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 n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[cm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action tim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(k n)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[s</a:t>
            </a:r>
            <a:r>
              <a:rPr b="0" lang="de-DE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ad.association C+H → CH + h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hotodiss.       CO + h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→ C +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012000" y="1557360"/>
          <a:ext cx="289404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557360"/>
                    <a:ext cx="289404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4720" y="4005360"/>
          <a:ext cx="1879920" cy="14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005360"/>
                    <a:ext cx="18799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179280" y="3789360"/>
            <a:ext cx="896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ss.              HCO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→ CO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co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on-molecule       CO + h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→ C +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056200" y="1341360"/>
          <a:ext cx="4087800" cy="27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6200" y="1341360"/>
                    <a:ext cx="408780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5508720" y="4292640"/>
          <a:ext cx="3301920" cy="23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292640"/>
                    <a:ext cx="330192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179280" y="4221000"/>
            <a:ext cx="896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: interstellar clouds contain a very rich chemist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179960" cy="539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lake et al.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harge transf.    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H →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utral-neutral    H + HCO → CO +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651640" y="1628640"/>
          <a:ext cx="3071520" cy="19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628640"/>
                    <a:ext cx="307152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5867280" y="4437000"/>
          <a:ext cx="2768760" cy="22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37000"/>
                    <a:ext cx="276876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179280" y="4221000"/>
            <a:ext cx="896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 ionization    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+ CR →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ust-surface    H + H:g → H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5499000" y="1628640"/>
          <a:ext cx="3376800" cy="19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9000" y="1628640"/>
                    <a:ext cx="337680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5724360" y="4437000"/>
          <a:ext cx="2565720" cy="18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437000"/>
                    <a:ext cx="25657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179280" y="4221000"/>
            <a:ext cx="896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ample: ratio H</a:t>
            </a:r>
            <a:r>
              <a:rPr b="0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258920" y="2492280"/>
          <a:ext cx="6676920" cy="17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92280"/>
                    <a:ext cx="66769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69080" y="4437000"/>
            <a:ext cx="836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ydrogen is atomar, unless FUV is atten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: H2 is detecte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use clouds: [H2]/[H]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e clouds:  [H2]/[H]&gt;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ust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lf 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gree of I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produ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R →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R → H +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0.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+ CR → H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tive recombination of atomic ions too slow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rge exchange from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H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→ moelcular ions (10-100 1/n yr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ed by dissociative recombination of molecular ions (0.3 1/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r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gree of I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547640" y="1628640"/>
          <a:ext cx="568656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568656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592200" y="5157720"/>
            <a:ext cx="855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reactions t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r 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. associ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r 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ther reactions occur before 1 dissoc. recombination destroys ions/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gree of I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94960" y="1787400"/>
            <a:ext cx="65376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 – Molecule – Sc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→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e    →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  or  H + H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AB → AB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gree of I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79480" y="1787400"/>
            <a:ext cx="59245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 – Molecule – Sc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→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+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→ C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→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→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→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e     →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76920" y="2708280"/>
            <a:ext cx="217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→ C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36000" y="2421000"/>
            <a:ext cx="936360" cy="1079280"/>
          </a:xfrm>
          <a:prstGeom prst="lightningBolt">
            <a:avLst/>
          </a:prstGeom>
          <a:solidFill>
            <a:srgbClr val="ff0066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020000" y="152892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27640" y="520560"/>
            <a:ext cx="5050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508720" y="152892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20000" y="253692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20000" y="3473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20000" y="448164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508720" y="3473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508720" y="253692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244000" y="152892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44000" y="52056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56360" y="548964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20000" y="563400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08720" y="448164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08720" y="6353280"/>
            <a:ext cx="50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"/>
          <p:cNvCxnSpPr>
            <a:stCxn id="706" idx="1"/>
            <a:endCxn id="703" idx="3"/>
          </p:cNvCxnSpPr>
          <p:nvPr/>
        </p:nvCxnSpPr>
        <p:spPr>
          <a:xfrm flipV="1">
            <a:off x="7094160" y="1958760"/>
            <a:ext cx="1080" cy="653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03" idx="5"/>
            <a:endCxn id="706" idx="7"/>
          </p:cNvCxnSpPr>
          <p:nvPr/>
        </p:nvCxnSpPr>
        <p:spPr>
          <a:xfrm flipV="1" rot="10800000">
            <a:off x="7449480" y="1958760"/>
            <a:ext cx="1080" cy="653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6856560" y="205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7888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90080" y="2011320"/>
            <a:ext cx="642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7" idx="1"/>
            <a:endCxn id="706" idx="3"/>
          </p:cNvCxnSpPr>
          <p:nvPr/>
        </p:nvCxnSpPr>
        <p:spPr>
          <a:xfrm flipV="1">
            <a:off x="7094160" y="2967120"/>
            <a:ext cx="1080" cy="581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06" idx="5"/>
            <a:endCxn id="707" idx="7"/>
          </p:cNvCxnSpPr>
          <p:nvPr/>
        </p:nvCxnSpPr>
        <p:spPr>
          <a:xfrm flipV="1" rot="10800000">
            <a:off x="7449480" y="2967120"/>
            <a:ext cx="1080" cy="581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>
            <a:off x="6856560" y="2989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78880" y="3041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456320" y="2948040"/>
            <a:ext cx="366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"/>
          <p:cNvCxnSpPr>
            <a:stCxn id="707" idx="4"/>
            <a:endCxn id="708" idx="0"/>
          </p:cNvCxnSpPr>
          <p:nvPr/>
        </p:nvCxnSpPr>
        <p:spPr>
          <a:xfrm flipV="1" rot="10800000">
            <a:off x="7271640" y="3978000"/>
            <a:ext cx="1080" cy="504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7240680" y="41004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"/>
          <p:cNvCxnSpPr>
            <a:stCxn id="708" idx="4"/>
            <a:endCxn id="714" idx="0"/>
          </p:cNvCxnSpPr>
          <p:nvPr/>
        </p:nvCxnSpPr>
        <p:spPr>
          <a:xfrm flipV="1" rot="10800000">
            <a:off x="7271640" y="4986000"/>
            <a:ext cx="1080" cy="64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7313400" y="5180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537400" y="1147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"/>
          <p:cNvCxnSpPr>
            <a:stCxn id="714" idx="2"/>
            <a:endCxn id="716" idx="6"/>
          </p:cNvCxnSpPr>
          <p:nvPr/>
        </p:nvCxnSpPr>
        <p:spPr>
          <a:xfrm flipH="1">
            <a:off x="6013080" y="5886360"/>
            <a:ext cx="10072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14" idx="1"/>
            <a:endCxn id="715" idx="6"/>
          </p:cNvCxnSpPr>
          <p:nvPr/>
        </p:nvCxnSpPr>
        <p:spPr>
          <a:xfrm flipH="1" flipV="1">
            <a:off x="6012720" y="4733280"/>
            <a:ext cx="108180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 rot="19638000">
            <a:off x="6373440" y="58492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, 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13440" y="5180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13" idx="0"/>
            <a:endCxn id="715" idx="5"/>
          </p:cNvCxnSpPr>
          <p:nvPr/>
        </p:nvCxnSpPr>
        <p:spPr>
          <a:xfrm flipH="1" flipV="1">
            <a:off x="5938200" y="4911120"/>
            <a:ext cx="47052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"/>
          <p:cNvSpPr/>
          <p:nvPr/>
        </p:nvSpPr>
        <p:spPr>
          <a:xfrm>
            <a:off x="6805440" y="532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16" idx="7"/>
            <a:endCxn id="713" idx="4"/>
          </p:cNvCxnSpPr>
          <p:nvPr/>
        </p:nvCxnSpPr>
        <p:spPr>
          <a:xfrm flipV="1">
            <a:off x="5938560" y="5994000"/>
            <a:ext cx="47052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5779440" y="5989680"/>
            <a:ext cx="5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03" idx="6"/>
            <a:endCxn id="711" idx="2"/>
          </p:cNvCxnSpPr>
          <p:nvPr/>
        </p:nvCxnSpPr>
        <p:spPr>
          <a:xfrm>
            <a:off x="7524720" y="178092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7650000" y="1527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11" idx="0"/>
            <a:endCxn id="712" idx="4"/>
          </p:cNvCxnSpPr>
          <p:nvPr/>
        </p:nvCxnSpPr>
        <p:spPr>
          <a:xfrm flipV="1">
            <a:off x="8496000" y="102528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04" idx="7"/>
            <a:endCxn id="712" idx="1"/>
          </p:cNvCxnSpPr>
          <p:nvPr/>
        </p:nvCxnSpPr>
        <p:spPr>
          <a:xfrm>
            <a:off x="6657480" y="595080"/>
            <a:ext cx="166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712" idx="2"/>
            <a:endCxn id="704" idx="6"/>
          </p:cNvCxnSpPr>
          <p:nvPr/>
        </p:nvCxnSpPr>
        <p:spPr>
          <a:xfrm flipH="1">
            <a:off x="6732360" y="772920"/>
            <a:ext cx="151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7100640" y="311040"/>
            <a:ext cx="42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26160" y="716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"/>
          <p:cNvCxnSpPr>
            <a:stCxn id="711" idx="1"/>
            <a:endCxn id="704" idx="6"/>
          </p:cNvCxnSpPr>
          <p:nvPr/>
        </p:nvCxnSpPr>
        <p:spPr>
          <a:xfrm flipH="1" flipV="1">
            <a:off x="6732000" y="772920"/>
            <a:ext cx="158652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03" idx="0"/>
            <a:endCxn id="704" idx="5"/>
          </p:cNvCxnSpPr>
          <p:nvPr/>
        </p:nvCxnSpPr>
        <p:spPr>
          <a:xfrm flipH="1" flipV="1">
            <a:off x="6657120" y="950400"/>
            <a:ext cx="615240" cy="57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6860520" y="102384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"/>
          <p:cNvCxnSpPr>
            <a:stCxn id="704" idx="4"/>
            <a:endCxn id="703" idx="1"/>
          </p:cNvCxnSpPr>
          <p:nvPr/>
        </p:nvCxnSpPr>
        <p:spPr>
          <a:xfrm>
            <a:off x="6479640" y="1025280"/>
            <a:ext cx="61524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1" name=""/>
          <p:cNvSpPr/>
          <p:nvPr/>
        </p:nvSpPr>
        <p:spPr>
          <a:xfrm>
            <a:off x="637668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05" idx="0"/>
            <a:endCxn id="704" idx="3"/>
          </p:cNvCxnSpPr>
          <p:nvPr/>
        </p:nvCxnSpPr>
        <p:spPr>
          <a:xfrm flipV="1">
            <a:off x="5761080" y="950400"/>
            <a:ext cx="542160" cy="57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04" idx="4"/>
            <a:endCxn id="705" idx="7"/>
          </p:cNvCxnSpPr>
          <p:nvPr/>
        </p:nvCxnSpPr>
        <p:spPr>
          <a:xfrm flipH="1">
            <a:off x="5938200" y="1025280"/>
            <a:ext cx="541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>
            <a:off x="6229080" y="107640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581800" y="10033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229080" y="13129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7" name=""/>
          <p:cNvCxnSpPr>
            <a:stCxn id="705" idx="7"/>
            <a:endCxn id="703" idx="1"/>
          </p:cNvCxnSpPr>
          <p:nvPr/>
        </p:nvCxnSpPr>
        <p:spPr>
          <a:xfrm>
            <a:off x="5938920" y="1603080"/>
            <a:ext cx="1156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"/>
          <p:cNvSpPr/>
          <p:nvPr/>
        </p:nvSpPr>
        <p:spPr>
          <a:xfrm>
            <a:off x="7794720" y="102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"/>
          <p:cNvCxnSpPr>
            <a:stCxn id="703" idx="2"/>
            <a:endCxn id="705" idx="6"/>
          </p:cNvCxnSpPr>
          <p:nvPr/>
        </p:nvCxnSpPr>
        <p:spPr>
          <a:xfrm flipH="1">
            <a:off x="6013080" y="1780920"/>
            <a:ext cx="10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0" name=""/>
          <p:cNvSpPr/>
          <p:nvPr/>
        </p:nvSpPr>
        <p:spPr>
          <a:xfrm>
            <a:off x="6208920" y="174312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,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1" name=""/>
          <p:cNvCxnSpPr>
            <a:stCxn id="706" idx="1"/>
            <a:endCxn id="705" idx="6"/>
          </p:cNvCxnSpPr>
          <p:nvPr/>
        </p:nvCxnSpPr>
        <p:spPr>
          <a:xfrm flipH="1" flipV="1">
            <a:off x="6012720" y="1780920"/>
            <a:ext cx="108180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6443280" y="1960560"/>
            <a:ext cx="38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589440" y="203364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89440" y="25369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"/>
          <p:cNvCxnSpPr>
            <a:stCxn id="710" idx="6"/>
            <a:endCxn id="706" idx="2"/>
          </p:cNvCxnSpPr>
          <p:nvPr/>
        </p:nvCxnSpPr>
        <p:spPr>
          <a:xfrm>
            <a:off x="6013440" y="2788920"/>
            <a:ext cx="10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376320" y="3429000"/>
            <a:ext cx="5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"/>
          <p:cNvCxnSpPr/>
          <p:nvPr/>
        </p:nvCxnSpPr>
        <p:spPr>
          <a:xfrm>
            <a:off x="6011640" y="3688920"/>
            <a:ext cx="100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"/>
          <p:cNvSpPr/>
          <p:nvPr/>
        </p:nvSpPr>
        <p:spPr>
          <a:xfrm>
            <a:off x="6373440" y="426564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"/>
          <p:cNvCxnSpPr>
            <a:stCxn id="715" idx="7"/>
            <a:endCxn id="708" idx="1"/>
          </p:cNvCxnSpPr>
          <p:nvPr/>
        </p:nvCxnSpPr>
        <p:spPr>
          <a:xfrm>
            <a:off x="5938920" y="4555800"/>
            <a:ext cx="1156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0" name=""/>
          <p:cNvCxnSpPr>
            <a:stCxn id="708" idx="2"/>
            <a:endCxn id="715" idx="6"/>
          </p:cNvCxnSpPr>
          <p:nvPr/>
        </p:nvCxnSpPr>
        <p:spPr>
          <a:xfrm flipH="1">
            <a:off x="6013080" y="4733640"/>
            <a:ext cx="10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6373800" y="4697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"/>
          <p:cNvCxnSpPr>
            <a:stCxn id="708" idx="1"/>
            <a:endCxn id="709" idx="6"/>
          </p:cNvCxnSpPr>
          <p:nvPr/>
        </p:nvCxnSpPr>
        <p:spPr>
          <a:xfrm flipH="1" flipV="1">
            <a:off x="6012720" y="3725640"/>
            <a:ext cx="108180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3" name=""/>
          <p:cNvSpPr/>
          <p:nvPr/>
        </p:nvSpPr>
        <p:spPr>
          <a:xfrm>
            <a:off x="6229080" y="37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"/>
          <p:cNvCxnSpPr>
            <a:stCxn id="708" idx="1"/>
            <a:endCxn id="710" idx="5"/>
          </p:cNvCxnSpPr>
          <p:nvPr/>
        </p:nvCxnSpPr>
        <p:spPr>
          <a:xfrm flipH="1" flipV="1">
            <a:off x="5938560" y="2966760"/>
            <a:ext cx="1156320" cy="15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6661080" y="3833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"/>
          <p:cNvCxnSpPr>
            <a:stCxn id="707" idx="1"/>
            <a:endCxn id="710" idx="6"/>
          </p:cNvCxnSpPr>
          <p:nvPr/>
        </p:nvCxnSpPr>
        <p:spPr>
          <a:xfrm flipH="1" flipV="1">
            <a:off x="6012720" y="2788920"/>
            <a:ext cx="108180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7" name=""/>
          <p:cNvSpPr/>
          <p:nvPr/>
        </p:nvSpPr>
        <p:spPr>
          <a:xfrm>
            <a:off x="6518160" y="2968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661080" y="282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"/>
          <p:cNvCxnSpPr>
            <a:stCxn id="707" idx="1"/>
            <a:endCxn id="705" idx="5"/>
          </p:cNvCxnSpPr>
          <p:nvPr/>
        </p:nvCxnSpPr>
        <p:spPr>
          <a:xfrm flipH="1" flipV="1">
            <a:off x="5938560" y="1958760"/>
            <a:ext cx="1156320" cy="15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0" name=""/>
          <p:cNvCxnSpPr/>
          <p:nvPr/>
        </p:nvCxnSpPr>
        <p:spPr>
          <a:xfrm>
            <a:off x="5989320" y="1882800"/>
            <a:ext cx="103716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1" name=""/>
          <p:cNvSpPr/>
          <p:nvPr/>
        </p:nvSpPr>
        <p:spPr>
          <a:xfrm>
            <a:off x="6379920" y="2320920"/>
            <a:ext cx="42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"/>
          <p:cNvCxnSpPr>
            <a:stCxn id="710" idx="0"/>
            <a:endCxn id="705" idx="4"/>
          </p:cNvCxnSpPr>
          <p:nvPr/>
        </p:nvCxnSpPr>
        <p:spPr>
          <a:xfrm flipV="1">
            <a:off x="5760720" y="203328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"/>
          <p:cNvCxnSpPr>
            <a:stCxn id="709" idx="0"/>
            <a:endCxn id="710" idx="4"/>
          </p:cNvCxnSpPr>
          <p:nvPr/>
        </p:nvCxnSpPr>
        <p:spPr>
          <a:xfrm flipV="1">
            <a:off x="5760720" y="304092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15" idx="0"/>
            <a:endCxn id="709" idx="4"/>
          </p:cNvCxnSpPr>
          <p:nvPr/>
        </p:nvCxnSpPr>
        <p:spPr>
          <a:xfrm flipV="1">
            <a:off x="5760720" y="397800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16" idx="0"/>
            <a:endCxn id="715" idx="4"/>
          </p:cNvCxnSpPr>
          <p:nvPr/>
        </p:nvCxnSpPr>
        <p:spPr>
          <a:xfrm flipV="1">
            <a:off x="5760720" y="4985640"/>
            <a:ext cx="1080" cy="13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09" idx="3"/>
            <a:endCxn id="715" idx="1"/>
          </p:cNvCxnSpPr>
          <p:nvPr/>
        </p:nvCxnSpPr>
        <p:spPr>
          <a:xfrm>
            <a:off x="5582880" y="3903840"/>
            <a:ext cx="1080" cy="65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5013360" y="4049640"/>
            <a:ext cx="64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509800" y="55609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26160" y="3976560"/>
            <a:ext cx="30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725800" y="31129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25800" y="217656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"/>
          <p:cNvCxnSpPr>
            <a:stCxn id="716" idx="6"/>
            <a:endCxn id="714" idx="4"/>
          </p:cNvCxnSpPr>
          <p:nvPr/>
        </p:nvCxnSpPr>
        <p:spPr>
          <a:xfrm flipV="1">
            <a:off x="6013080" y="6138000"/>
            <a:ext cx="125964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3" name=""/>
          <p:cNvSpPr/>
          <p:nvPr/>
        </p:nvSpPr>
        <p:spPr>
          <a:xfrm>
            <a:off x="6813000" y="6410160"/>
            <a:ext cx="42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"/>
          <p:cNvCxnSpPr>
            <a:stCxn id="714" idx="0"/>
            <a:endCxn id="709" idx="5"/>
          </p:cNvCxnSpPr>
          <p:nvPr/>
        </p:nvCxnSpPr>
        <p:spPr>
          <a:xfrm flipH="1" flipV="1">
            <a:off x="5938560" y="3903480"/>
            <a:ext cx="1334160" cy="17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6786360" y="48402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6" name=""/>
          <p:cNvCxnSpPr>
            <a:stCxn id="703" idx="6"/>
            <a:endCxn id="707" idx="6"/>
          </p:cNvCxnSpPr>
          <p:nvPr/>
        </p:nvCxnSpPr>
        <p:spPr>
          <a:xfrm>
            <a:off x="7524720" y="1781280"/>
            <a:ext cx="2160" cy="1945440"/>
          </a:xfrm>
          <a:prstGeom prst="curvedConnector5">
            <a:avLst>
              <a:gd name="adj1" fmla="val 44000000"/>
              <a:gd name="adj2" fmla="val 49990"/>
              <a:gd name="adj3" fmla="val 44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8177040" y="28256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06" idx="6"/>
            <a:endCxn id="711" idx="4"/>
          </p:cNvCxnSpPr>
          <p:nvPr/>
        </p:nvCxnSpPr>
        <p:spPr>
          <a:xfrm flipV="1">
            <a:off x="7524360" y="2032920"/>
            <a:ext cx="972360" cy="7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8244360" y="2249640"/>
            <a:ext cx="4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"/>
          <p:cNvCxnSpPr>
            <a:stCxn id="716" idx="2"/>
            <a:endCxn id="709" idx="2"/>
          </p:cNvCxnSpPr>
          <p:nvPr/>
        </p:nvCxnSpPr>
        <p:spPr>
          <a:xfrm flipH="1" rot="10800000">
            <a:off x="5508360" y="3725280"/>
            <a:ext cx="2160" cy="2880360"/>
          </a:xfrm>
          <a:prstGeom prst="curvedConnector5">
            <a:avLst>
              <a:gd name="adj1" fmla="val -41600000"/>
              <a:gd name="adj2" fmla="val 50000"/>
              <a:gd name="adj3" fmla="val -4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4292280" y="4913280"/>
            <a:ext cx="616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"/>
          <p:cNvCxnSpPr>
            <a:stCxn id="709" idx="2"/>
            <a:endCxn id="704" idx="2"/>
          </p:cNvCxnSpPr>
          <p:nvPr/>
        </p:nvCxnSpPr>
        <p:spPr>
          <a:xfrm flipH="1" rot="10800000">
            <a:off x="5507640" y="772560"/>
            <a:ext cx="719640" cy="2953440"/>
          </a:xfrm>
          <a:prstGeom prst="curvedConnector5">
            <a:avLst>
              <a:gd name="adj1" fmla="val -137937"/>
              <a:gd name="adj2" fmla="val 49993"/>
              <a:gd name="adj3" fmla="val -137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3" name=""/>
          <p:cNvCxnSpPr>
            <a:stCxn id="710" idx="2"/>
            <a:endCxn id="704" idx="2"/>
          </p:cNvCxnSpPr>
          <p:nvPr/>
        </p:nvCxnSpPr>
        <p:spPr>
          <a:xfrm flipH="1" rot="10800000">
            <a:off x="5507640" y="772560"/>
            <a:ext cx="719640" cy="2016720"/>
          </a:xfrm>
          <a:prstGeom prst="curvedConnector5">
            <a:avLst>
              <a:gd name="adj1" fmla="val -31781"/>
              <a:gd name="adj2" fmla="val 49991"/>
              <a:gd name="adj3" fmla="val -31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"/>
          <p:cNvSpPr/>
          <p:nvPr/>
        </p:nvSpPr>
        <p:spPr>
          <a:xfrm>
            <a:off x="4265640" y="2103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933800" y="1744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710" idx="2"/>
            <a:endCxn id="712" idx="0"/>
          </p:cNvCxnSpPr>
          <p:nvPr/>
        </p:nvCxnSpPr>
        <p:spPr>
          <a:xfrm flipH="1" rot="10800000">
            <a:off x="5507640" y="519840"/>
            <a:ext cx="2988360" cy="2269440"/>
          </a:xfrm>
          <a:prstGeom prst="curvedConnector5">
            <a:avLst>
              <a:gd name="adj1" fmla="val -28156"/>
              <a:gd name="adj2" fmla="val 58115"/>
              <a:gd name="adj3" fmla="val -281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"/>
          <p:cNvSpPr/>
          <p:nvPr/>
        </p:nvSpPr>
        <p:spPr>
          <a:xfrm>
            <a:off x="4933800" y="3333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708" idx="6"/>
            <a:endCxn id="712" idx="7"/>
          </p:cNvCxnSpPr>
          <p:nvPr/>
        </p:nvCxnSpPr>
        <p:spPr>
          <a:xfrm flipV="1">
            <a:off x="7524360" y="595080"/>
            <a:ext cx="1150200" cy="4139280"/>
          </a:xfrm>
          <a:prstGeom prst="curvedConnector5">
            <a:avLst>
              <a:gd name="adj1" fmla="val 132028"/>
              <a:gd name="adj2" fmla="val 51030"/>
              <a:gd name="adj3" fmla="val 1320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707" idx="5"/>
            <a:endCxn id="712" idx="6"/>
          </p:cNvCxnSpPr>
          <p:nvPr/>
        </p:nvCxnSpPr>
        <p:spPr>
          <a:xfrm flipH="1" flipV="1" rot="5400000">
            <a:off x="6532920" y="1688760"/>
            <a:ext cx="3131280" cy="1299240"/>
          </a:xfrm>
          <a:prstGeom prst="curvedConnector5">
            <a:avLst>
              <a:gd name="adj1" fmla="val -8669"/>
              <a:gd name="adj2" fmla="val 52605"/>
              <a:gd name="adj3" fmla="val -86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8721720" y="26370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605800" y="39337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ny roadmap, this network describ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to get from A to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on any roadma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paths are quick some are s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any normal roadmap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low paths may become very qu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er certai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"/>
          <p:cNvGrpSpPr/>
          <p:nvPr/>
        </p:nvGrpSpPr>
        <p:grpSpPr>
          <a:xfrm>
            <a:off x="4265640" y="151920"/>
            <a:ext cx="4776840" cy="6706080"/>
            <a:chOff x="4265640" y="151920"/>
            <a:chExt cx="4776840" cy="6706080"/>
          </a:xfrm>
        </p:grpSpPr>
        <p:sp>
          <p:nvSpPr>
            <p:cNvPr id="814" name=""/>
            <p:cNvSpPr/>
            <p:nvPr/>
          </p:nvSpPr>
          <p:spPr>
            <a:xfrm>
              <a:off x="7020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27640" y="520560"/>
              <a:ext cx="50508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0872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2000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02000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2000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0872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0872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244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44000" y="52056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56360" y="5489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20000" y="563400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0872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08720" y="635328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8" name=""/>
            <p:cNvCxnSpPr>
              <a:stCxn id="817" idx="1"/>
              <a:endCxn id="814" idx="3"/>
            </p:cNvCxnSpPr>
            <p:nvPr/>
          </p:nvCxnSpPr>
          <p:spPr>
            <a:xfrm flipV="1">
              <a:off x="709416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stCxn id="814" idx="5"/>
              <a:endCxn id="817" idx="7"/>
            </p:cNvCxnSpPr>
            <p:nvPr/>
          </p:nvCxnSpPr>
          <p:spPr>
            <a:xfrm flipV="1" rot="10800000">
              <a:off x="744948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0" name=""/>
            <p:cNvSpPr/>
            <p:nvPr/>
          </p:nvSpPr>
          <p:spPr>
            <a:xfrm>
              <a:off x="6856560" y="2052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78880" y="21337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080" y="2011320"/>
              <a:ext cx="642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3" name=""/>
            <p:cNvCxnSpPr>
              <a:stCxn id="818" idx="1"/>
              <a:endCxn id="817" idx="3"/>
            </p:cNvCxnSpPr>
            <p:nvPr/>
          </p:nvCxnSpPr>
          <p:spPr>
            <a:xfrm flipV="1">
              <a:off x="709416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4" name=""/>
            <p:cNvCxnSpPr>
              <a:stCxn id="817" idx="5"/>
              <a:endCxn id="818" idx="7"/>
            </p:cNvCxnSpPr>
            <p:nvPr/>
          </p:nvCxnSpPr>
          <p:spPr>
            <a:xfrm flipV="1" rot="10800000">
              <a:off x="744948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5" name=""/>
            <p:cNvSpPr/>
            <p:nvPr/>
          </p:nvSpPr>
          <p:spPr>
            <a:xfrm>
              <a:off x="6856560" y="29894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78880" y="304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56320" y="2948040"/>
              <a:ext cx="366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18" idx="4"/>
              <a:endCxn id="819" idx="0"/>
            </p:cNvCxnSpPr>
            <p:nvPr/>
          </p:nvCxnSpPr>
          <p:spPr>
            <a:xfrm flipV="1" rot="10800000">
              <a:off x="7271640" y="3978000"/>
              <a:ext cx="1080" cy="504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9" name=""/>
            <p:cNvSpPr/>
            <p:nvPr/>
          </p:nvSpPr>
          <p:spPr>
            <a:xfrm>
              <a:off x="7240680" y="410040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19" idx="4"/>
              <a:endCxn id="825" idx="0"/>
            </p:cNvCxnSpPr>
            <p:nvPr/>
          </p:nvCxnSpPr>
          <p:spPr>
            <a:xfrm flipV="1" rot="10800000">
              <a:off x="7271640" y="4986000"/>
              <a:ext cx="1080" cy="648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1" name=""/>
            <p:cNvSpPr/>
            <p:nvPr/>
          </p:nvSpPr>
          <p:spPr>
            <a:xfrm>
              <a:off x="7313400" y="51800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537400" y="11476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3" name=""/>
            <p:cNvCxnSpPr>
              <a:stCxn id="825" idx="2"/>
              <a:endCxn id="827" idx="6"/>
            </p:cNvCxnSpPr>
            <p:nvPr/>
          </p:nvCxnSpPr>
          <p:spPr>
            <a:xfrm flipH="1">
              <a:off x="6013080" y="5886360"/>
              <a:ext cx="100728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25" idx="1"/>
              <a:endCxn id="826" idx="6"/>
            </p:cNvCxnSpPr>
            <p:nvPr/>
          </p:nvCxnSpPr>
          <p:spPr>
            <a:xfrm flipH="1" flipV="1">
              <a:off x="6012720" y="4733280"/>
              <a:ext cx="1081800" cy="97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5" name=""/>
            <p:cNvSpPr/>
            <p:nvPr/>
          </p:nvSpPr>
          <p:spPr>
            <a:xfrm rot="19638000">
              <a:off x="6373440" y="5849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13440" y="518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7" name=""/>
            <p:cNvCxnSpPr>
              <a:stCxn id="824" idx="0"/>
              <a:endCxn id="826" idx="5"/>
            </p:cNvCxnSpPr>
            <p:nvPr/>
          </p:nvCxnSpPr>
          <p:spPr>
            <a:xfrm flipH="1" flipV="1">
              <a:off x="5938200" y="4911120"/>
              <a:ext cx="47052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805440" y="5324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27" idx="7"/>
              <a:endCxn id="824" idx="4"/>
            </p:cNvCxnSpPr>
            <p:nvPr/>
          </p:nvCxnSpPr>
          <p:spPr>
            <a:xfrm flipV="1">
              <a:off x="5938560" y="5994000"/>
              <a:ext cx="47052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0" name=""/>
            <p:cNvSpPr/>
            <p:nvPr/>
          </p:nvSpPr>
          <p:spPr>
            <a:xfrm>
              <a:off x="5779440" y="598968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1" name=""/>
            <p:cNvCxnSpPr>
              <a:stCxn id="814" idx="6"/>
              <a:endCxn id="822" idx="2"/>
            </p:cNvCxnSpPr>
            <p:nvPr/>
          </p:nvCxnSpPr>
          <p:spPr>
            <a:xfrm>
              <a:off x="7524720" y="1780920"/>
              <a:ext cx="72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2" name=""/>
            <p:cNvSpPr/>
            <p:nvPr/>
          </p:nvSpPr>
          <p:spPr>
            <a:xfrm>
              <a:off x="7650000" y="1527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3" name=""/>
            <p:cNvCxnSpPr>
              <a:stCxn id="822" idx="0"/>
              <a:endCxn id="823" idx="4"/>
            </p:cNvCxnSpPr>
            <p:nvPr/>
          </p:nvCxnSpPr>
          <p:spPr>
            <a:xfrm flipV="1">
              <a:off x="8496000" y="1025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15" idx="7"/>
              <a:endCxn id="823" idx="1"/>
            </p:cNvCxnSpPr>
            <p:nvPr/>
          </p:nvCxnSpPr>
          <p:spPr>
            <a:xfrm>
              <a:off x="6657480" y="595080"/>
              <a:ext cx="1661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5" name=""/>
            <p:cNvCxnSpPr>
              <a:stCxn id="823" idx="2"/>
              <a:endCxn id="815" idx="6"/>
            </p:cNvCxnSpPr>
            <p:nvPr/>
          </p:nvCxnSpPr>
          <p:spPr>
            <a:xfrm flipH="1">
              <a:off x="6732360" y="772920"/>
              <a:ext cx="151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6" name=""/>
            <p:cNvSpPr/>
            <p:nvPr/>
          </p:nvSpPr>
          <p:spPr>
            <a:xfrm>
              <a:off x="7100640" y="311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26160" y="716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22" idx="1"/>
              <a:endCxn id="815" idx="6"/>
            </p:cNvCxnSpPr>
            <p:nvPr/>
          </p:nvCxnSpPr>
          <p:spPr>
            <a:xfrm flipH="1" flipV="1">
              <a:off x="6732000" y="772920"/>
              <a:ext cx="158652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14" idx="0"/>
              <a:endCxn id="815" idx="5"/>
            </p:cNvCxnSpPr>
            <p:nvPr/>
          </p:nvCxnSpPr>
          <p:spPr>
            <a:xfrm flipH="1" flipV="1">
              <a:off x="6657120" y="950400"/>
              <a:ext cx="61524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0" name=""/>
            <p:cNvSpPr/>
            <p:nvPr/>
          </p:nvSpPr>
          <p:spPr>
            <a:xfrm>
              <a:off x="6860520" y="102384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"/>
            <p:cNvCxnSpPr>
              <a:stCxn id="815" idx="4"/>
              <a:endCxn id="814" idx="1"/>
            </p:cNvCxnSpPr>
            <p:nvPr/>
          </p:nvCxnSpPr>
          <p:spPr>
            <a:xfrm>
              <a:off x="6479640" y="1025280"/>
              <a:ext cx="61524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6376680" y="12193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3" name=""/>
            <p:cNvCxnSpPr>
              <a:stCxn id="816" idx="0"/>
              <a:endCxn id="815" idx="3"/>
            </p:cNvCxnSpPr>
            <p:nvPr/>
          </p:nvCxnSpPr>
          <p:spPr>
            <a:xfrm flipV="1">
              <a:off x="5761080" y="950400"/>
              <a:ext cx="54216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4" name=""/>
            <p:cNvCxnSpPr>
              <a:stCxn id="815" idx="4"/>
              <a:endCxn id="816" idx="7"/>
            </p:cNvCxnSpPr>
            <p:nvPr/>
          </p:nvCxnSpPr>
          <p:spPr>
            <a:xfrm flipH="1">
              <a:off x="5938200" y="1025280"/>
              <a:ext cx="541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5" name=""/>
            <p:cNvSpPr/>
            <p:nvPr/>
          </p:nvSpPr>
          <p:spPr>
            <a:xfrm>
              <a:off x="6229080" y="107640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81800" y="1003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29080" y="13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8" name=""/>
            <p:cNvCxnSpPr>
              <a:stCxn id="816" idx="7"/>
              <a:endCxn id="814" idx="1"/>
            </p:cNvCxnSpPr>
            <p:nvPr/>
          </p:nvCxnSpPr>
          <p:spPr>
            <a:xfrm>
              <a:off x="5938920" y="160308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9" name=""/>
            <p:cNvSpPr/>
            <p:nvPr/>
          </p:nvSpPr>
          <p:spPr>
            <a:xfrm>
              <a:off x="7794720" y="1023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14" idx="2"/>
              <a:endCxn id="816" idx="6"/>
            </p:cNvCxnSpPr>
            <p:nvPr/>
          </p:nvCxnSpPr>
          <p:spPr>
            <a:xfrm flipH="1">
              <a:off x="6013080" y="1780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1" name=""/>
            <p:cNvSpPr/>
            <p:nvPr/>
          </p:nvSpPr>
          <p:spPr>
            <a:xfrm>
              <a:off x="6208920" y="174312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2" name=""/>
            <p:cNvCxnSpPr>
              <a:stCxn id="817" idx="1"/>
              <a:endCxn id="816" idx="6"/>
            </p:cNvCxnSpPr>
            <p:nvPr/>
          </p:nvCxnSpPr>
          <p:spPr>
            <a:xfrm flipH="1" flipV="1">
              <a:off x="6012720" y="178092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3" name=""/>
            <p:cNvSpPr/>
            <p:nvPr/>
          </p:nvSpPr>
          <p:spPr>
            <a:xfrm>
              <a:off x="6443280" y="1960560"/>
              <a:ext cx="38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89440" y="2033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89440" y="2536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6" name=""/>
            <p:cNvCxnSpPr>
              <a:stCxn id="821" idx="6"/>
              <a:endCxn id="817" idx="2"/>
            </p:cNvCxnSpPr>
            <p:nvPr/>
          </p:nvCxnSpPr>
          <p:spPr>
            <a:xfrm>
              <a:off x="6013440" y="2788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7" name=""/>
            <p:cNvSpPr/>
            <p:nvPr/>
          </p:nvSpPr>
          <p:spPr>
            <a:xfrm>
              <a:off x="6376320" y="342900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C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/>
            <p:nvPr/>
          </p:nvCxnSpPr>
          <p:spPr>
            <a:xfrm>
              <a:off x="6011640" y="3688920"/>
              <a:ext cx="100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9" name=""/>
            <p:cNvSpPr/>
            <p:nvPr/>
          </p:nvSpPr>
          <p:spPr>
            <a:xfrm>
              <a:off x="6373440" y="4265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0" name=""/>
            <p:cNvCxnSpPr>
              <a:stCxn id="826" idx="7"/>
              <a:endCxn id="819" idx="1"/>
            </p:cNvCxnSpPr>
            <p:nvPr/>
          </p:nvCxnSpPr>
          <p:spPr>
            <a:xfrm>
              <a:off x="5938920" y="455580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19" idx="2"/>
              <a:endCxn id="826" idx="6"/>
            </p:cNvCxnSpPr>
            <p:nvPr/>
          </p:nvCxnSpPr>
          <p:spPr>
            <a:xfrm flipH="1">
              <a:off x="6013080" y="473364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6373800" y="4697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"/>
            <p:cNvCxnSpPr>
              <a:stCxn id="819" idx="1"/>
              <a:endCxn id="820" idx="6"/>
            </p:cNvCxnSpPr>
            <p:nvPr/>
          </p:nvCxnSpPr>
          <p:spPr>
            <a:xfrm flipH="1" flipV="1">
              <a:off x="6012720" y="372564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4" name=""/>
            <p:cNvSpPr/>
            <p:nvPr/>
          </p:nvSpPr>
          <p:spPr>
            <a:xfrm>
              <a:off x="6229080" y="3760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5" name=""/>
            <p:cNvCxnSpPr>
              <a:stCxn id="819" idx="1"/>
              <a:endCxn id="821" idx="5"/>
            </p:cNvCxnSpPr>
            <p:nvPr/>
          </p:nvCxnSpPr>
          <p:spPr>
            <a:xfrm flipH="1" flipV="1">
              <a:off x="5938560" y="2966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6" name=""/>
            <p:cNvSpPr/>
            <p:nvPr/>
          </p:nvSpPr>
          <p:spPr>
            <a:xfrm>
              <a:off x="6661080" y="3833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7" name=""/>
            <p:cNvCxnSpPr>
              <a:stCxn id="818" idx="1"/>
              <a:endCxn id="821" idx="6"/>
            </p:cNvCxnSpPr>
            <p:nvPr/>
          </p:nvCxnSpPr>
          <p:spPr>
            <a:xfrm flipH="1" flipV="1">
              <a:off x="6012720" y="2788920"/>
              <a:ext cx="1081800" cy="75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"/>
            <p:cNvSpPr/>
            <p:nvPr/>
          </p:nvSpPr>
          <p:spPr>
            <a:xfrm>
              <a:off x="6518160" y="296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61080" y="2825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0" name=""/>
            <p:cNvCxnSpPr>
              <a:stCxn id="818" idx="1"/>
              <a:endCxn id="816" idx="5"/>
            </p:cNvCxnSpPr>
            <p:nvPr/>
          </p:nvCxnSpPr>
          <p:spPr>
            <a:xfrm flipH="1" flipV="1">
              <a:off x="5938560" y="1958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"/>
            <p:cNvCxnSpPr/>
            <p:nvPr/>
          </p:nvCxnSpPr>
          <p:spPr>
            <a:xfrm>
              <a:off x="5989320" y="1882800"/>
              <a:ext cx="1037160" cy="81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"/>
            <p:cNvSpPr/>
            <p:nvPr/>
          </p:nvSpPr>
          <p:spPr>
            <a:xfrm>
              <a:off x="6379920" y="232092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"/>
            <p:cNvCxnSpPr>
              <a:stCxn id="821" idx="0"/>
              <a:endCxn id="816" idx="4"/>
            </p:cNvCxnSpPr>
            <p:nvPr/>
          </p:nvCxnSpPr>
          <p:spPr>
            <a:xfrm flipV="1">
              <a:off x="5760720" y="2033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"/>
            <p:cNvCxnSpPr>
              <a:stCxn id="820" idx="0"/>
              <a:endCxn id="821" idx="4"/>
            </p:cNvCxnSpPr>
            <p:nvPr/>
          </p:nvCxnSpPr>
          <p:spPr>
            <a:xfrm flipV="1">
              <a:off x="5760720" y="304092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"/>
            <p:cNvCxnSpPr>
              <a:stCxn id="826" idx="0"/>
              <a:endCxn id="820" idx="4"/>
            </p:cNvCxnSpPr>
            <p:nvPr/>
          </p:nvCxnSpPr>
          <p:spPr>
            <a:xfrm flipV="1">
              <a:off x="5760720" y="397800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"/>
            <p:cNvCxnSpPr>
              <a:stCxn id="827" idx="0"/>
              <a:endCxn id="826" idx="4"/>
            </p:cNvCxnSpPr>
            <p:nvPr/>
          </p:nvCxnSpPr>
          <p:spPr>
            <a:xfrm flipV="1">
              <a:off x="5760720" y="4985640"/>
              <a:ext cx="1080" cy="13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"/>
            <p:cNvCxnSpPr>
              <a:stCxn id="820" idx="3"/>
              <a:endCxn id="826" idx="1"/>
            </p:cNvCxnSpPr>
            <p:nvPr/>
          </p:nvCxnSpPr>
          <p:spPr>
            <a:xfrm>
              <a:off x="5582880" y="3903840"/>
              <a:ext cx="1080" cy="65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8" name=""/>
            <p:cNvSpPr/>
            <p:nvPr/>
          </p:nvSpPr>
          <p:spPr>
            <a:xfrm>
              <a:off x="5013360" y="4049640"/>
              <a:ext cx="64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09800" y="5560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26160" y="3976560"/>
              <a:ext cx="30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25800" y="31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25800" y="2176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827" idx="6"/>
              <a:endCxn id="825" idx="4"/>
            </p:cNvCxnSpPr>
            <p:nvPr/>
          </p:nvCxnSpPr>
          <p:spPr>
            <a:xfrm flipV="1">
              <a:off x="6013080" y="6138000"/>
              <a:ext cx="1259640" cy="46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4" name=""/>
            <p:cNvSpPr/>
            <p:nvPr/>
          </p:nvSpPr>
          <p:spPr>
            <a:xfrm>
              <a:off x="6813000" y="641016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"/>
            <p:cNvCxnSpPr>
              <a:stCxn id="825" idx="0"/>
              <a:endCxn id="820" idx="5"/>
            </p:cNvCxnSpPr>
            <p:nvPr/>
          </p:nvCxnSpPr>
          <p:spPr>
            <a:xfrm flipH="1" flipV="1">
              <a:off x="5938560" y="3903480"/>
              <a:ext cx="1334160" cy="17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6" name=""/>
            <p:cNvSpPr/>
            <p:nvPr/>
          </p:nvSpPr>
          <p:spPr>
            <a:xfrm>
              <a:off x="6786360" y="48402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7" name=""/>
            <p:cNvCxnSpPr>
              <a:stCxn id="814" idx="6"/>
              <a:endCxn id="818" idx="6"/>
            </p:cNvCxnSpPr>
            <p:nvPr/>
          </p:nvCxnSpPr>
          <p:spPr>
            <a:xfrm>
              <a:off x="7524720" y="1781280"/>
              <a:ext cx="2160" cy="1945440"/>
            </a:xfrm>
            <a:prstGeom prst="curvedConnector5">
              <a:avLst>
                <a:gd name="adj1" fmla="val 44000000"/>
                <a:gd name="adj2" fmla="val 49990"/>
                <a:gd name="adj3" fmla="val 44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8" name=""/>
            <p:cNvSpPr/>
            <p:nvPr/>
          </p:nvSpPr>
          <p:spPr>
            <a:xfrm>
              <a:off x="8177040" y="28256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817" idx="6"/>
              <a:endCxn id="822" idx="4"/>
            </p:cNvCxnSpPr>
            <p:nvPr/>
          </p:nvCxnSpPr>
          <p:spPr>
            <a:xfrm flipV="1">
              <a:off x="7524360" y="2032920"/>
              <a:ext cx="972360" cy="756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0" name=""/>
            <p:cNvSpPr/>
            <p:nvPr/>
          </p:nvSpPr>
          <p:spPr>
            <a:xfrm>
              <a:off x="8244360" y="224964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1" name=""/>
            <p:cNvCxnSpPr>
              <a:stCxn id="827" idx="2"/>
              <a:endCxn id="820" idx="2"/>
            </p:cNvCxnSpPr>
            <p:nvPr/>
          </p:nvCxnSpPr>
          <p:spPr>
            <a:xfrm flipH="1" rot="10800000">
              <a:off x="5508360" y="3725280"/>
              <a:ext cx="2160" cy="2880360"/>
            </a:xfrm>
            <a:prstGeom prst="curvedConnector5">
              <a:avLst>
                <a:gd name="adj1" fmla="val -41600000"/>
                <a:gd name="adj2" fmla="val 50000"/>
                <a:gd name="adj3" fmla="val -41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2" name=""/>
            <p:cNvSpPr/>
            <p:nvPr/>
          </p:nvSpPr>
          <p:spPr>
            <a:xfrm>
              <a:off x="4292280" y="4913280"/>
              <a:ext cx="61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3" name=""/>
            <p:cNvCxnSpPr>
              <a:stCxn id="820" idx="2"/>
              <a:endCxn id="815" idx="2"/>
            </p:cNvCxnSpPr>
            <p:nvPr/>
          </p:nvCxnSpPr>
          <p:spPr>
            <a:xfrm flipH="1" rot="10800000">
              <a:off x="5507640" y="772560"/>
              <a:ext cx="719640" cy="2953440"/>
            </a:xfrm>
            <a:prstGeom prst="curvedConnector5">
              <a:avLst>
                <a:gd name="adj1" fmla="val -137937"/>
                <a:gd name="adj2" fmla="val 49993"/>
                <a:gd name="adj3" fmla="val -137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4" name=""/>
            <p:cNvCxnSpPr>
              <a:stCxn id="821" idx="2"/>
              <a:endCxn id="815" idx="2"/>
            </p:cNvCxnSpPr>
            <p:nvPr/>
          </p:nvCxnSpPr>
          <p:spPr>
            <a:xfrm flipH="1" rot="10800000">
              <a:off x="5507640" y="772560"/>
              <a:ext cx="719640" cy="2016720"/>
            </a:xfrm>
            <a:prstGeom prst="curvedConnector5">
              <a:avLst>
                <a:gd name="adj1" fmla="val -31781"/>
                <a:gd name="adj2" fmla="val 49991"/>
                <a:gd name="adj3" fmla="val -317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5" name=""/>
            <p:cNvSpPr/>
            <p:nvPr/>
          </p:nvSpPr>
          <p:spPr>
            <a:xfrm>
              <a:off x="4265640" y="2103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33800" y="17445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7" name=""/>
            <p:cNvCxnSpPr>
              <a:stCxn id="821" idx="2"/>
              <a:endCxn id="823" idx="0"/>
            </p:cNvCxnSpPr>
            <p:nvPr/>
          </p:nvCxnSpPr>
          <p:spPr>
            <a:xfrm flipH="1" rot="10800000">
              <a:off x="5507640" y="519840"/>
              <a:ext cx="2988360" cy="2269440"/>
            </a:xfrm>
            <a:prstGeom prst="curvedConnector5">
              <a:avLst>
                <a:gd name="adj1" fmla="val -28156"/>
                <a:gd name="adj2" fmla="val 58115"/>
                <a:gd name="adj3" fmla="val -281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8" name=""/>
            <p:cNvSpPr/>
            <p:nvPr/>
          </p:nvSpPr>
          <p:spPr>
            <a:xfrm>
              <a:off x="4933800" y="333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9" name=""/>
            <p:cNvCxnSpPr>
              <a:stCxn id="819" idx="6"/>
              <a:endCxn id="823" idx="7"/>
            </p:cNvCxnSpPr>
            <p:nvPr/>
          </p:nvCxnSpPr>
          <p:spPr>
            <a:xfrm flipV="1">
              <a:off x="7524360" y="595080"/>
              <a:ext cx="1150200" cy="4139280"/>
            </a:xfrm>
            <a:prstGeom prst="curvedConnector5">
              <a:avLst>
                <a:gd name="adj1" fmla="val 132028"/>
                <a:gd name="adj2" fmla="val 51030"/>
                <a:gd name="adj3" fmla="val 1320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0" name=""/>
            <p:cNvCxnSpPr>
              <a:stCxn id="818" idx="5"/>
              <a:endCxn id="823" idx="6"/>
            </p:cNvCxnSpPr>
            <p:nvPr/>
          </p:nvCxnSpPr>
          <p:spPr>
            <a:xfrm flipH="1" flipV="1" rot="5400000">
              <a:off x="6532920" y="1688760"/>
              <a:ext cx="3131280" cy="1299240"/>
            </a:xfrm>
            <a:prstGeom prst="curvedConnector5">
              <a:avLst>
                <a:gd name="adj1" fmla="val -8669"/>
                <a:gd name="adj2" fmla="val 52605"/>
                <a:gd name="adj3" fmla="val -86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1" name=""/>
            <p:cNvSpPr/>
            <p:nvPr/>
          </p:nvSpPr>
          <p:spPr>
            <a:xfrm>
              <a:off x="8721720" y="2637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05800" y="3933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4284720" y="0"/>
            <a:ext cx="485928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use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: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with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→ CH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→ 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+ 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→ 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+ e → 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n-1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O → CO +n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020000" y="1528920"/>
            <a:ext cx="50472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250920" y="2276640"/>
            <a:ext cx="3918600" cy="648720"/>
            <a:chOff x="250920" y="2276640"/>
            <a:chExt cx="3918600" cy="648720"/>
          </a:xfrm>
        </p:grpSpPr>
        <p:sp>
          <p:nvSpPr>
            <p:cNvPr id="927" name=""/>
            <p:cNvSpPr/>
            <p:nvPr/>
          </p:nvSpPr>
          <p:spPr>
            <a:xfrm flipV="1">
              <a:off x="250920" y="2636640"/>
              <a:ext cx="324144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132360" y="227664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0000"/>
                  </a:solidFill>
                  <a:latin typeface="Arial"/>
                </a:rPr>
                <a:t>Δ</a:t>
              </a: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E=4600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V="1" rot="10800000">
            <a:off x="7449480" y="1958760"/>
            <a:ext cx="1080" cy="65304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>
            <a:off x="7390080" y="2011320"/>
            <a:ext cx="642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020000" y="2536920"/>
            <a:ext cx="50472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"/>
          <p:cNvCxnSpPr/>
          <p:nvPr/>
        </p:nvCxnSpPr>
        <p:spPr>
          <a:xfrm>
            <a:off x="7524720" y="1781280"/>
            <a:ext cx="2160" cy="1945440"/>
          </a:xfrm>
          <a:prstGeom prst="curvedConnector5">
            <a:avLst>
              <a:gd name="adj1" fmla="val 44000000"/>
              <a:gd name="adj2" fmla="val 49990"/>
              <a:gd name="adj3" fmla="val 440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33" name=""/>
          <p:cNvSpPr/>
          <p:nvPr/>
        </p:nvSpPr>
        <p:spPr>
          <a:xfrm>
            <a:off x="8177040" y="28256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070800" y="3284640"/>
            <a:ext cx="13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 ≈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11480" y="364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501360" y="3789360"/>
            <a:ext cx="128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 ≈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9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7020000" y="3978360"/>
            <a:ext cx="587520" cy="1008000"/>
            <a:chOff x="7020000" y="3978360"/>
            <a:chExt cx="587520" cy="1008000"/>
          </a:xfrm>
        </p:grpSpPr>
        <p:sp>
          <p:nvSpPr>
            <p:cNvPr id="938" name=""/>
            <p:cNvSpPr/>
            <p:nvPr/>
          </p:nvSpPr>
          <p:spPr>
            <a:xfrm>
              <a:off x="7020000" y="4481640"/>
              <a:ext cx="504720" cy="50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endCxn id="938" idx="0"/>
            </p:cNvCxnSpPr>
            <p:nvPr/>
          </p:nvCxnSpPr>
          <p:spPr>
            <a:xfrm flipV="1" rot="10800000">
              <a:off x="7271640" y="3978000"/>
              <a:ext cx="1080" cy="50400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40" name=""/>
            <p:cNvSpPr/>
            <p:nvPr/>
          </p:nvSpPr>
          <p:spPr>
            <a:xfrm>
              <a:off x="7240680" y="410040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5508720" y="2536920"/>
            <a:ext cx="1585800" cy="2019240"/>
            <a:chOff x="5508720" y="2536920"/>
            <a:chExt cx="1585800" cy="2019240"/>
          </a:xfrm>
        </p:grpSpPr>
        <p:grpSp>
          <p:nvGrpSpPr>
            <p:cNvPr id="942" name=""/>
            <p:cNvGrpSpPr/>
            <p:nvPr/>
          </p:nvGrpSpPr>
          <p:grpSpPr>
            <a:xfrm>
              <a:off x="5938560" y="2966760"/>
              <a:ext cx="1155960" cy="1589400"/>
              <a:chOff x="5938560" y="2966760"/>
              <a:chExt cx="1155960" cy="1589400"/>
            </a:xfrm>
          </p:grpSpPr>
          <p:cxnSp>
            <p:nvCxnSpPr>
              <p:cNvPr id="943" name=""/>
              <p:cNvCxnSpPr/>
              <p:nvPr/>
            </p:nvCxnSpPr>
            <p:spPr>
              <a:xfrm flipH="1" flipV="1">
                <a:off x="6012720" y="3725640"/>
                <a:ext cx="1081800" cy="830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944" name=""/>
              <p:cNvSpPr/>
              <p:nvPr/>
            </p:nvSpPr>
            <p:spPr>
              <a:xfrm>
                <a:off x="6229080" y="37609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5" name=""/>
              <p:cNvCxnSpPr/>
              <p:nvPr/>
            </p:nvCxnSpPr>
            <p:spPr>
              <a:xfrm flipH="1" flipV="1">
                <a:off x="5938560" y="2966760"/>
                <a:ext cx="1156320" cy="15897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946" name=""/>
              <p:cNvSpPr/>
              <p:nvPr/>
            </p:nvSpPr>
            <p:spPr>
              <a:xfrm>
                <a:off x="6661080" y="3833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508720" y="3473280"/>
              <a:ext cx="504720" cy="505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08720" y="2536920"/>
              <a:ext cx="504720" cy="50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7020000" y="3473280"/>
            <a:ext cx="504720" cy="50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12640" y="4653000"/>
            <a:ext cx="128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 ≈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7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6012720" y="2788920"/>
            <a:ext cx="1081440" cy="759240"/>
            <a:chOff x="6012720" y="2788920"/>
            <a:chExt cx="1081440" cy="759240"/>
          </a:xfrm>
        </p:grpSpPr>
        <p:cxnSp>
          <p:nvCxnSpPr>
            <p:cNvPr id="952" name=""/>
            <p:cNvCxnSpPr/>
            <p:nvPr/>
          </p:nvCxnSpPr>
          <p:spPr>
            <a:xfrm flipH="1" flipV="1">
              <a:off x="6012720" y="2788920"/>
              <a:ext cx="1081800" cy="7596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53" name=""/>
            <p:cNvSpPr/>
            <p:nvPr/>
          </p:nvSpPr>
          <p:spPr>
            <a:xfrm>
              <a:off x="6518160" y="296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4265640" y="772920"/>
            <a:ext cx="1961280" cy="2953080"/>
            <a:chOff x="4265640" y="772920"/>
            <a:chExt cx="1961280" cy="2953080"/>
          </a:xfrm>
        </p:grpSpPr>
        <p:cxnSp>
          <p:nvCxnSpPr>
            <p:cNvPr id="955" name=""/>
            <p:cNvCxnSpPr/>
            <p:nvPr/>
          </p:nvCxnSpPr>
          <p:spPr>
            <a:xfrm flipH="1" rot="10800000">
              <a:off x="5507640" y="772560"/>
              <a:ext cx="719640" cy="2953440"/>
            </a:xfrm>
            <a:prstGeom prst="curvedConnector5">
              <a:avLst>
                <a:gd name="adj1" fmla="val -137937"/>
                <a:gd name="adj2" fmla="val 49993"/>
                <a:gd name="adj3" fmla="val -137937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/>
            <p:nvPr/>
          </p:nvCxnSpPr>
          <p:spPr>
            <a:xfrm flipH="1" rot="10800000">
              <a:off x="5507640" y="772560"/>
              <a:ext cx="719640" cy="2016720"/>
            </a:xfrm>
            <a:prstGeom prst="curvedConnector5">
              <a:avLst>
                <a:gd name="adj1" fmla="val -31781"/>
                <a:gd name="adj2" fmla="val 49991"/>
                <a:gd name="adj3" fmla="val -3178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57" name=""/>
            <p:cNvSpPr/>
            <p:nvPr/>
          </p:nvSpPr>
          <p:spPr>
            <a:xfrm>
              <a:off x="4265640" y="2103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33800" y="17445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27640" y="520560"/>
            <a:ext cx="505080" cy="5050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288240" y="5516640"/>
            <a:ext cx="13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 ≈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7020000" y="4986000"/>
            <a:ext cx="1501200" cy="1152720"/>
            <a:chOff x="7020000" y="4986000"/>
            <a:chExt cx="1501200" cy="1152720"/>
          </a:xfrm>
        </p:grpSpPr>
        <p:sp>
          <p:nvSpPr>
            <p:cNvPr id="962" name=""/>
            <p:cNvSpPr/>
            <p:nvPr/>
          </p:nvSpPr>
          <p:spPr>
            <a:xfrm>
              <a:off x="7020000" y="5634000"/>
              <a:ext cx="504720" cy="504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endCxn id="962" idx="0"/>
            </p:cNvCxnSpPr>
            <p:nvPr/>
          </p:nvCxnSpPr>
          <p:spPr>
            <a:xfrm flipV="1" rot="10800000">
              <a:off x="7271640" y="4986000"/>
              <a:ext cx="1080" cy="648360"/>
            </a:xfrm>
            <a:prstGeom prst="curvedConnector2">
              <a:avLst/>
            </a:prstGeom>
            <a:ln w="9360">
              <a:solidFill>
                <a:srgbClr val="ffcc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64" name=""/>
            <p:cNvSpPr/>
            <p:nvPr/>
          </p:nvSpPr>
          <p:spPr>
            <a:xfrm>
              <a:off x="7313400" y="51800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95280" y="55166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Arial"/>
                </a:rPr>
                <a:t>very s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"/>
          <p:cNvGrpSpPr/>
          <p:nvPr/>
        </p:nvGrpSpPr>
        <p:grpSpPr>
          <a:xfrm>
            <a:off x="4265640" y="151920"/>
            <a:ext cx="4776840" cy="6706080"/>
            <a:chOff x="4265640" y="151920"/>
            <a:chExt cx="4776840" cy="6706080"/>
          </a:xfrm>
        </p:grpSpPr>
        <p:sp>
          <p:nvSpPr>
            <p:cNvPr id="967" name=""/>
            <p:cNvSpPr/>
            <p:nvPr/>
          </p:nvSpPr>
          <p:spPr>
            <a:xfrm>
              <a:off x="7020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27640" y="520560"/>
              <a:ext cx="50508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0872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2000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02000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2000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0872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0872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244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44000" y="52056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56360" y="5489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020000" y="563400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0872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08720" y="635328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1" name=""/>
            <p:cNvCxnSpPr>
              <a:stCxn id="970" idx="1"/>
              <a:endCxn id="967" idx="3"/>
            </p:cNvCxnSpPr>
            <p:nvPr/>
          </p:nvCxnSpPr>
          <p:spPr>
            <a:xfrm flipV="1">
              <a:off x="709416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2" name=""/>
            <p:cNvCxnSpPr>
              <a:stCxn id="967" idx="5"/>
              <a:endCxn id="970" idx="7"/>
            </p:cNvCxnSpPr>
            <p:nvPr/>
          </p:nvCxnSpPr>
          <p:spPr>
            <a:xfrm flipV="1" rot="10800000">
              <a:off x="744948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3" name=""/>
            <p:cNvSpPr/>
            <p:nvPr/>
          </p:nvSpPr>
          <p:spPr>
            <a:xfrm>
              <a:off x="6856560" y="2052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78880" y="21337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90080" y="2011320"/>
              <a:ext cx="642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6" name=""/>
            <p:cNvCxnSpPr>
              <a:stCxn id="971" idx="1"/>
              <a:endCxn id="970" idx="3"/>
            </p:cNvCxnSpPr>
            <p:nvPr/>
          </p:nvCxnSpPr>
          <p:spPr>
            <a:xfrm flipV="1">
              <a:off x="709416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7" name=""/>
            <p:cNvCxnSpPr>
              <a:stCxn id="970" idx="5"/>
              <a:endCxn id="971" idx="7"/>
            </p:cNvCxnSpPr>
            <p:nvPr/>
          </p:nvCxnSpPr>
          <p:spPr>
            <a:xfrm flipV="1" rot="10800000">
              <a:off x="744948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6856560" y="29894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78880" y="304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56320" y="2948040"/>
              <a:ext cx="366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71" idx="4"/>
              <a:endCxn id="972" idx="0"/>
            </p:cNvCxnSpPr>
            <p:nvPr/>
          </p:nvCxnSpPr>
          <p:spPr>
            <a:xfrm flipV="1" rot="10800000">
              <a:off x="7271640" y="3978000"/>
              <a:ext cx="1080" cy="504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2" name=""/>
            <p:cNvSpPr/>
            <p:nvPr/>
          </p:nvSpPr>
          <p:spPr>
            <a:xfrm>
              <a:off x="7240680" y="410040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>
              <a:stCxn id="972" idx="4"/>
              <a:endCxn id="978" idx="0"/>
            </p:cNvCxnSpPr>
            <p:nvPr/>
          </p:nvCxnSpPr>
          <p:spPr>
            <a:xfrm flipV="1" rot="10800000">
              <a:off x="7271640" y="4986000"/>
              <a:ext cx="1080" cy="648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7313400" y="51800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537400" y="11476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6" name=""/>
            <p:cNvCxnSpPr>
              <a:stCxn id="978" idx="2"/>
              <a:endCxn id="980" idx="6"/>
            </p:cNvCxnSpPr>
            <p:nvPr/>
          </p:nvCxnSpPr>
          <p:spPr>
            <a:xfrm flipH="1">
              <a:off x="6013080" y="5886360"/>
              <a:ext cx="100728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7" name=""/>
            <p:cNvCxnSpPr>
              <a:stCxn id="978" idx="1"/>
              <a:endCxn id="979" idx="6"/>
            </p:cNvCxnSpPr>
            <p:nvPr/>
          </p:nvCxnSpPr>
          <p:spPr>
            <a:xfrm flipH="1" flipV="1">
              <a:off x="6012720" y="4733280"/>
              <a:ext cx="1081800" cy="97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8" name=""/>
            <p:cNvSpPr/>
            <p:nvPr/>
          </p:nvSpPr>
          <p:spPr>
            <a:xfrm rot="19638000">
              <a:off x="6373440" y="5849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3440" y="518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0" name=""/>
            <p:cNvCxnSpPr>
              <a:stCxn id="977" idx="0"/>
              <a:endCxn id="979" idx="5"/>
            </p:cNvCxnSpPr>
            <p:nvPr/>
          </p:nvCxnSpPr>
          <p:spPr>
            <a:xfrm flipH="1" flipV="1">
              <a:off x="5938200" y="4911120"/>
              <a:ext cx="47052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1" name=""/>
            <p:cNvSpPr/>
            <p:nvPr/>
          </p:nvSpPr>
          <p:spPr>
            <a:xfrm>
              <a:off x="6805440" y="5324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2" name=""/>
            <p:cNvCxnSpPr>
              <a:stCxn id="980" idx="7"/>
              <a:endCxn id="977" idx="4"/>
            </p:cNvCxnSpPr>
            <p:nvPr/>
          </p:nvCxnSpPr>
          <p:spPr>
            <a:xfrm flipV="1">
              <a:off x="5938560" y="5994000"/>
              <a:ext cx="47052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"/>
            <p:cNvSpPr/>
            <p:nvPr/>
          </p:nvSpPr>
          <p:spPr>
            <a:xfrm>
              <a:off x="5779440" y="598968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4" name=""/>
            <p:cNvCxnSpPr>
              <a:stCxn id="967" idx="6"/>
              <a:endCxn id="975" idx="2"/>
            </p:cNvCxnSpPr>
            <p:nvPr/>
          </p:nvCxnSpPr>
          <p:spPr>
            <a:xfrm>
              <a:off x="7524720" y="1780920"/>
              <a:ext cx="72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5" name=""/>
            <p:cNvSpPr/>
            <p:nvPr/>
          </p:nvSpPr>
          <p:spPr>
            <a:xfrm>
              <a:off x="7650000" y="1527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6" name=""/>
            <p:cNvCxnSpPr>
              <a:stCxn id="975" idx="0"/>
              <a:endCxn id="976" idx="4"/>
            </p:cNvCxnSpPr>
            <p:nvPr/>
          </p:nvCxnSpPr>
          <p:spPr>
            <a:xfrm flipV="1">
              <a:off x="8496000" y="1025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7" name=""/>
            <p:cNvCxnSpPr>
              <a:stCxn id="968" idx="7"/>
              <a:endCxn id="976" idx="1"/>
            </p:cNvCxnSpPr>
            <p:nvPr/>
          </p:nvCxnSpPr>
          <p:spPr>
            <a:xfrm>
              <a:off x="6657480" y="595080"/>
              <a:ext cx="1661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8" name=""/>
            <p:cNvCxnSpPr>
              <a:stCxn id="976" idx="2"/>
              <a:endCxn id="968" idx="6"/>
            </p:cNvCxnSpPr>
            <p:nvPr/>
          </p:nvCxnSpPr>
          <p:spPr>
            <a:xfrm flipH="1">
              <a:off x="6732360" y="772920"/>
              <a:ext cx="151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9" name=""/>
            <p:cNvSpPr/>
            <p:nvPr/>
          </p:nvSpPr>
          <p:spPr>
            <a:xfrm>
              <a:off x="7100640" y="311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526160" y="716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1" name=""/>
            <p:cNvCxnSpPr>
              <a:stCxn id="975" idx="1"/>
              <a:endCxn id="968" idx="6"/>
            </p:cNvCxnSpPr>
            <p:nvPr/>
          </p:nvCxnSpPr>
          <p:spPr>
            <a:xfrm flipH="1" flipV="1">
              <a:off x="6732000" y="772920"/>
              <a:ext cx="158652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967" idx="0"/>
              <a:endCxn id="968" idx="5"/>
            </p:cNvCxnSpPr>
            <p:nvPr/>
          </p:nvCxnSpPr>
          <p:spPr>
            <a:xfrm flipH="1" flipV="1">
              <a:off x="6657120" y="950400"/>
              <a:ext cx="61524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3" name=""/>
            <p:cNvSpPr/>
            <p:nvPr/>
          </p:nvSpPr>
          <p:spPr>
            <a:xfrm>
              <a:off x="6860520" y="102384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4" name=""/>
            <p:cNvCxnSpPr>
              <a:stCxn id="968" idx="4"/>
              <a:endCxn id="967" idx="1"/>
            </p:cNvCxnSpPr>
            <p:nvPr/>
          </p:nvCxnSpPr>
          <p:spPr>
            <a:xfrm>
              <a:off x="6479640" y="1025280"/>
              <a:ext cx="61524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5" name=""/>
            <p:cNvSpPr/>
            <p:nvPr/>
          </p:nvSpPr>
          <p:spPr>
            <a:xfrm>
              <a:off x="6376680" y="12193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969" idx="0"/>
              <a:endCxn id="968" idx="3"/>
            </p:cNvCxnSpPr>
            <p:nvPr/>
          </p:nvCxnSpPr>
          <p:spPr>
            <a:xfrm flipV="1">
              <a:off x="5761080" y="950400"/>
              <a:ext cx="54216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968" idx="4"/>
              <a:endCxn id="969" idx="7"/>
            </p:cNvCxnSpPr>
            <p:nvPr/>
          </p:nvCxnSpPr>
          <p:spPr>
            <a:xfrm flipH="1">
              <a:off x="5938200" y="1025280"/>
              <a:ext cx="541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6229080" y="107640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81800" y="1003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29080" y="13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1" name=""/>
            <p:cNvCxnSpPr>
              <a:stCxn id="969" idx="7"/>
              <a:endCxn id="967" idx="1"/>
            </p:cNvCxnSpPr>
            <p:nvPr/>
          </p:nvCxnSpPr>
          <p:spPr>
            <a:xfrm>
              <a:off x="5938920" y="160308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2" name=""/>
            <p:cNvSpPr/>
            <p:nvPr/>
          </p:nvSpPr>
          <p:spPr>
            <a:xfrm>
              <a:off x="7794720" y="1023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967" idx="2"/>
              <a:endCxn id="969" idx="6"/>
            </p:cNvCxnSpPr>
            <p:nvPr/>
          </p:nvCxnSpPr>
          <p:spPr>
            <a:xfrm flipH="1">
              <a:off x="6013080" y="1780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4" name=""/>
            <p:cNvSpPr/>
            <p:nvPr/>
          </p:nvSpPr>
          <p:spPr>
            <a:xfrm>
              <a:off x="6208920" y="174312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970" idx="1"/>
              <a:endCxn id="969" idx="6"/>
            </p:cNvCxnSpPr>
            <p:nvPr/>
          </p:nvCxnSpPr>
          <p:spPr>
            <a:xfrm flipH="1" flipV="1">
              <a:off x="6012720" y="178092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6" name=""/>
            <p:cNvSpPr/>
            <p:nvPr/>
          </p:nvSpPr>
          <p:spPr>
            <a:xfrm>
              <a:off x="6443280" y="1960560"/>
              <a:ext cx="38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89440" y="2033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89440" y="2536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9" name=""/>
            <p:cNvCxnSpPr>
              <a:stCxn id="974" idx="6"/>
              <a:endCxn id="970" idx="2"/>
            </p:cNvCxnSpPr>
            <p:nvPr/>
          </p:nvCxnSpPr>
          <p:spPr>
            <a:xfrm>
              <a:off x="6013440" y="2788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0" name=""/>
            <p:cNvSpPr/>
            <p:nvPr/>
          </p:nvSpPr>
          <p:spPr>
            <a:xfrm>
              <a:off x="6376320" y="342900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C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/>
            <p:nvPr/>
          </p:nvCxnSpPr>
          <p:spPr>
            <a:xfrm>
              <a:off x="6011640" y="3688920"/>
              <a:ext cx="100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373440" y="4265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979" idx="7"/>
              <a:endCxn id="972" idx="1"/>
            </p:cNvCxnSpPr>
            <p:nvPr/>
          </p:nvCxnSpPr>
          <p:spPr>
            <a:xfrm>
              <a:off x="5938920" y="455580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"/>
            <p:cNvCxnSpPr>
              <a:stCxn id="972" idx="2"/>
              <a:endCxn id="979" idx="6"/>
            </p:cNvCxnSpPr>
            <p:nvPr/>
          </p:nvCxnSpPr>
          <p:spPr>
            <a:xfrm flipH="1">
              <a:off x="6013080" y="473364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5" name=""/>
            <p:cNvSpPr/>
            <p:nvPr/>
          </p:nvSpPr>
          <p:spPr>
            <a:xfrm>
              <a:off x="6373800" y="4697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6" name=""/>
            <p:cNvCxnSpPr>
              <a:stCxn id="972" idx="1"/>
              <a:endCxn id="973" idx="6"/>
            </p:cNvCxnSpPr>
            <p:nvPr/>
          </p:nvCxnSpPr>
          <p:spPr>
            <a:xfrm flipH="1" flipV="1">
              <a:off x="6012720" y="372564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"/>
            <p:cNvSpPr/>
            <p:nvPr/>
          </p:nvSpPr>
          <p:spPr>
            <a:xfrm>
              <a:off x="6229080" y="3760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"/>
            <p:cNvCxnSpPr>
              <a:stCxn id="972" idx="1"/>
              <a:endCxn id="974" idx="5"/>
            </p:cNvCxnSpPr>
            <p:nvPr/>
          </p:nvCxnSpPr>
          <p:spPr>
            <a:xfrm flipH="1" flipV="1">
              <a:off x="5938560" y="2966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"/>
            <p:cNvSpPr/>
            <p:nvPr/>
          </p:nvSpPr>
          <p:spPr>
            <a:xfrm>
              <a:off x="6661080" y="3833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"/>
            <p:cNvCxnSpPr>
              <a:stCxn id="971" idx="1"/>
              <a:endCxn id="974" idx="6"/>
            </p:cNvCxnSpPr>
            <p:nvPr/>
          </p:nvCxnSpPr>
          <p:spPr>
            <a:xfrm flipH="1" flipV="1">
              <a:off x="6012720" y="2788920"/>
              <a:ext cx="1081800" cy="75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"/>
            <p:cNvSpPr/>
            <p:nvPr/>
          </p:nvSpPr>
          <p:spPr>
            <a:xfrm>
              <a:off x="6518160" y="296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61080" y="2825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971" idx="1"/>
              <a:endCxn id="969" idx="5"/>
            </p:cNvCxnSpPr>
            <p:nvPr/>
          </p:nvCxnSpPr>
          <p:spPr>
            <a:xfrm flipH="1" flipV="1">
              <a:off x="5938560" y="1958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/>
            <p:nvPr/>
          </p:nvCxnSpPr>
          <p:spPr>
            <a:xfrm>
              <a:off x="5989320" y="1882800"/>
              <a:ext cx="1037160" cy="81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5" name=""/>
            <p:cNvSpPr/>
            <p:nvPr/>
          </p:nvSpPr>
          <p:spPr>
            <a:xfrm>
              <a:off x="6379920" y="232092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6" name=""/>
            <p:cNvCxnSpPr>
              <a:stCxn id="974" idx="0"/>
              <a:endCxn id="969" idx="4"/>
            </p:cNvCxnSpPr>
            <p:nvPr/>
          </p:nvCxnSpPr>
          <p:spPr>
            <a:xfrm flipV="1">
              <a:off x="5760720" y="2033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7" name=""/>
            <p:cNvCxnSpPr>
              <a:stCxn id="973" idx="0"/>
              <a:endCxn id="974" idx="4"/>
            </p:cNvCxnSpPr>
            <p:nvPr/>
          </p:nvCxnSpPr>
          <p:spPr>
            <a:xfrm flipV="1">
              <a:off x="5760720" y="304092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8" name=""/>
            <p:cNvCxnSpPr>
              <a:stCxn id="979" idx="0"/>
              <a:endCxn id="973" idx="4"/>
            </p:cNvCxnSpPr>
            <p:nvPr/>
          </p:nvCxnSpPr>
          <p:spPr>
            <a:xfrm flipV="1">
              <a:off x="5760720" y="397800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9" name=""/>
            <p:cNvCxnSpPr>
              <a:stCxn id="980" idx="0"/>
              <a:endCxn id="979" idx="4"/>
            </p:cNvCxnSpPr>
            <p:nvPr/>
          </p:nvCxnSpPr>
          <p:spPr>
            <a:xfrm flipV="1">
              <a:off x="5760720" y="4985640"/>
              <a:ext cx="1080" cy="13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0" name=""/>
            <p:cNvCxnSpPr>
              <a:stCxn id="973" idx="3"/>
              <a:endCxn id="979" idx="1"/>
            </p:cNvCxnSpPr>
            <p:nvPr/>
          </p:nvCxnSpPr>
          <p:spPr>
            <a:xfrm>
              <a:off x="5582880" y="3903840"/>
              <a:ext cx="1080" cy="65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1" name=""/>
            <p:cNvSpPr/>
            <p:nvPr/>
          </p:nvSpPr>
          <p:spPr>
            <a:xfrm>
              <a:off x="5013360" y="4049640"/>
              <a:ext cx="64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09800" y="5560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726160" y="3976560"/>
              <a:ext cx="30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25800" y="31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25800" y="2176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6" name=""/>
            <p:cNvCxnSpPr>
              <a:stCxn id="980" idx="6"/>
              <a:endCxn id="978" idx="4"/>
            </p:cNvCxnSpPr>
            <p:nvPr/>
          </p:nvCxnSpPr>
          <p:spPr>
            <a:xfrm flipV="1">
              <a:off x="6013080" y="6138000"/>
              <a:ext cx="1259640" cy="46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7" name=""/>
            <p:cNvSpPr/>
            <p:nvPr/>
          </p:nvSpPr>
          <p:spPr>
            <a:xfrm>
              <a:off x="6813000" y="641016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8" name=""/>
            <p:cNvCxnSpPr>
              <a:stCxn id="978" idx="0"/>
              <a:endCxn id="973" idx="5"/>
            </p:cNvCxnSpPr>
            <p:nvPr/>
          </p:nvCxnSpPr>
          <p:spPr>
            <a:xfrm flipH="1" flipV="1">
              <a:off x="5938560" y="3903480"/>
              <a:ext cx="1334160" cy="17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9" name=""/>
            <p:cNvSpPr/>
            <p:nvPr/>
          </p:nvSpPr>
          <p:spPr>
            <a:xfrm>
              <a:off x="6786360" y="48402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0" name=""/>
            <p:cNvCxnSpPr>
              <a:stCxn id="967" idx="6"/>
              <a:endCxn id="971" idx="6"/>
            </p:cNvCxnSpPr>
            <p:nvPr/>
          </p:nvCxnSpPr>
          <p:spPr>
            <a:xfrm>
              <a:off x="7524720" y="1781280"/>
              <a:ext cx="2160" cy="1945440"/>
            </a:xfrm>
            <a:prstGeom prst="curvedConnector5">
              <a:avLst>
                <a:gd name="adj1" fmla="val 44000000"/>
                <a:gd name="adj2" fmla="val 49990"/>
                <a:gd name="adj3" fmla="val 44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1" name=""/>
            <p:cNvSpPr/>
            <p:nvPr/>
          </p:nvSpPr>
          <p:spPr>
            <a:xfrm>
              <a:off x="8177040" y="28256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2" name=""/>
            <p:cNvCxnSpPr>
              <a:stCxn id="970" idx="6"/>
              <a:endCxn id="975" idx="4"/>
            </p:cNvCxnSpPr>
            <p:nvPr/>
          </p:nvCxnSpPr>
          <p:spPr>
            <a:xfrm flipV="1">
              <a:off x="7524360" y="2032920"/>
              <a:ext cx="972360" cy="756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3" name=""/>
            <p:cNvSpPr/>
            <p:nvPr/>
          </p:nvSpPr>
          <p:spPr>
            <a:xfrm>
              <a:off x="8244360" y="224964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4" name=""/>
            <p:cNvCxnSpPr>
              <a:stCxn id="980" idx="2"/>
              <a:endCxn id="973" idx="2"/>
            </p:cNvCxnSpPr>
            <p:nvPr/>
          </p:nvCxnSpPr>
          <p:spPr>
            <a:xfrm flipH="1" rot="10800000">
              <a:off x="5508360" y="3725280"/>
              <a:ext cx="2160" cy="2880360"/>
            </a:xfrm>
            <a:prstGeom prst="curvedConnector5">
              <a:avLst>
                <a:gd name="adj1" fmla="val -41600000"/>
                <a:gd name="adj2" fmla="val 50000"/>
                <a:gd name="adj3" fmla="val -41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5" name=""/>
            <p:cNvSpPr/>
            <p:nvPr/>
          </p:nvSpPr>
          <p:spPr>
            <a:xfrm>
              <a:off x="4292280" y="4913280"/>
              <a:ext cx="61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"/>
            <p:cNvCxnSpPr>
              <a:stCxn id="973" idx="2"/>
              <a:endCxn id="968" idx="2"/>
            </p:cNvCxnSpPr>
            <p:nvPr/>
          </p:nvCxnSpPr>
          <p:spPr>
            <a:xfrm flipH="1" rot="10800000">
              <a:off x="5507640" y="772560"/>
              <a:ext cx="719640" cy="2953440"/>
            </a:xfrm>
            <a:prstGeom prst="curvedConnector5">
              <a:avLst>
                <a:gd name="adj1" fmla="val -137937"/>
                <a:gd name="adj2" fmla="val 49993"/>
                <a:gd name="adj3" fmla="val -137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7" name=""/>
            <p:cNvCxnSpPr>
              <a:stCxn id="974" idx="2"/>
              <a:endCxn id="968" idx="2"/>
            </p:cNvCxnSpPr>
            <p:nvPr/>
          </p:nvCxnSpPr>
          <p:spPr>
            <a:xfrm flipH="1" rot="10800000">
              <a:off x="5507640" y="772560"/>
              <a:ext cx="719640" cy="2016720"/>
            </a:xfrm>
            <a:prstGeom prst="curvedConnector5">
              <a:avLst>
                <a:gd name="adj1" fmla="val -31781"/>
                <a:gd name="adj2" fmla="val 49991"/>
                <a:gd name="adj3" fmla="val -317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8" name=""/>
            <p:cNvSpPr/>
            <p:nvPr/>
          </p:nvSpPr>
          <p:spPr>
            <a:xfrm>
              <a:off x="4265640" y="2103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33800" y="17445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"/>
            <p:cNvCxnSpPr>
              <a:stCxn id="974" idx="2"/>
              <a:endCxn id="976" idx="0"/>
            </p:cNvCxnSpPr>
            <p:nvPr/>
          </p:nvCxnSpPr>
          <p:spPr>
            <a:xfrm flipH="1" rot="10800000">
              <a:off x="5507640" y="519840"/>
              <a:ext cx="2988360" cy="2269440"/>
            </a:xfrm>
            <a:prstGeom prst="curvedConnector5">
              <a:avLst>
                <a:gd name="adj1" fmla="val -28156"/>
                <a:gd name="adj2" fmla="val 58115"/>
                <a:gd name="adj3" fmla="val -281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1" name=""/>
            <p:cNvSpPr/>
            <p:nvPr/>
          </p:nvSpPr>
          <p:spPr>
            <a:xfrm>
              <a:off x="4933800" y="333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2" name=""/>
            <p:cNvCxnSpPr>
              <a:stCxn id="972" idx="6"/>
              <a:endCxn id="976" idx="7"/>
            </p:cNvCxnSpPr>
            <p:nvPr/>
          </p:nvCxnSpPr>
          <p:spPr>
            <a:xfrm flipV="1">
              <a:off x="7524360" y="595080"/>
              <a:ext cx="1150200" cy="4139280"/>
            </a:xfrm>
            <a:prstGeom prst="curvedConnector5">
              <a:avLst>
                <a:gd name="adj1" fmla="val 132028"/>
                <a:gd name="adj2" fmla="val 51030"/>
                <a:gd name="adj3" fmla="val 1320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3" name=""/>
            <p:cNvCxnSpPr>
              <a:stCxn id="971" idx="5"/>
              <a:endCxn id="976" idx="6"/>
            </p:cNvCxnSpPr>
            <p:nvPr/>
          </p:nvCxnSpPr>
          <p:spPr>
            <a:xfrm flipH="1" flipV="1" rot="5400000">
              <a:off x="6532920" y="1688760"/>
              <a:ext cx="3131280" cy="1299240"/>
            </a:xfrm>
            <a:prstGeom prst="curvedConnector5">
              <a:avLst>
                <a:gd name="adj1" fmla="val -8669"/>
                <a:gd name="adj2" fmla="val 52605"/>
                <a:gd name="adj3" fmla="val -86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4" name=""/>
            <p:cNvSpPr/>
            <p:nvPr/>
          </p:nvSpPr>
          <p:spPr>
            <a:xfrm>
              <a:off x="8721720" y="2637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605800" y="3933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4284720" y="0"/>
            <a:ext cx="485928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UV intensity h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at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 routes become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→ CH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→ CH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rmic rea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energy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surmou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7020000" y="1528920"/>
            <a:ext cx="1012680" cy="1512720"/>
            <a:chOff x="7020000" y="1528920"/>
            <a:chExt cx="1012680" cy="1512720"/>
          </a:xfrm>
        </p:grpSpPr>
        <p:cxnSp>
          <p:nvCxnSpPr>
            <p:cNvPr id="1079" name=""/>
            <p:cNvCxnSpPr/>
            <p:nvPr/>
          </p:nvCxnSpPr>
          <p:spPr>
            <a:xfrm flipV="1" rot="10800000">
              <a:off x="7449480" y="1958760"/>
              <a:ext cx="1080" cy="65304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80" name=""/>
            <p:cNvSpPr/>
            <p:nvPr/>
          </p:nvSpPr>
          <p:spPr>
            <a:xfrm>
              <a:off x="7390080" y="2011320"/>
              <a:ext cx="642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020000" y="2536920"/>
              <a:ext cx="504720" cy="50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020000" y="1528920"/>
              <a:ext cx="504720" cy="50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75560" cy="438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80880" y="62578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rnicharo et al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4265640" y="151920"/>
            <a:ext cx="4776840" cy="6706080"/>
            <a:chOff x="4265640" y="151920"/>
            <a:chExt cx="4776840" cy="6706080"/>
          </a:xfrm>
        </p:grpSpPr>
        <p:sp>
          <p:nvSpPr>
            <p:cNvPr id="1084" name=""/>
            <p:cNvSpPr/>
            <p:nvPr/>
          </p:nvSpPr>
          <p:spPr>
            <a:xfrm>
              <a:off x="7020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227640" y="520560"/>
              <a:ext cx="50508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0872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2000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2000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2000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50872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0872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244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244000" y="52056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56360" y="5489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20000" y="563400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50872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08720" y="635328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8" name=""/>
            <p:cNvCxnSpPr>
              <a:stCxn id="1087" idx="1"/>
              <a:endCxn id="1084" idx="3"/>
            </p:cNvCxnSpPr>
            <p:nvPr/>
          </p:nvCxnSpPr>
          <p:spPr>
            <a:xfrm flipV="1">
              <a:off x="709416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9" name=""/>
            <p:cNvCxnSpPr>
              <a:stCxn id="1084" idx="5"/>
              <a:endCxn id="1087" idx="7"/>
            </p:cNvCxnSpPr>
            <p:nvPr/>
          </p:nvCxnSpPr>
          <p:spPr>
            <a:xfrm flipV="1" rot="10800000">
              <a:off x="744948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0" name=""/>
            <p:cNvSpPr/>
            <p:nvPr/>
          </p:nvSpPr>
          <p:spPr>
            <a:xfrm>
              <a:off x="6856560" y="2052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78880" y="21337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90080" y="2011320"/>
              <a:ext cx="642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3" name=""/>
            <p:cNvCxnSpPr>
              <a:stCxn id="1088" idx="1"/>
              <a:endCxn id="1087" idx="3"/>
            </p:cNvCxnSpPr>
            <p:nvPr/>
          </p:nvCxnSpPr>
          <p:spPr>
            <a:xfrm flipV="1">
              <a:off x="709416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4" name=""/>
            <p:cNvCxnSpPr>
              <a:stCxn id="1087" idx="5"/>
              <a:endCxn id="1088" idx="7"/>
            </p:cNvCxnSpPr>
            <p:nvPr/>
          </p:nvCxnSpPr>
          <p:spPr>
            <a:xfrm flipV="1" rot="10800000">
              <a:off x="744948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5" name=""/>
            <p:cNvSpPr/>
            <p:nvPr/>
          </p:nvSpPr>
          <p:spPr>
            <a:xfrm>
              <a:off x="6856560" y="29894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878880" y="304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456320" y="2948040"/>
              <a:ext cx="366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8" name=""/>
            <p:cNvCxnSpPr>
              <a:stCxn id="1088" idx="4"/>
              <a:endCxn id="1089" idx="0"/>
            </p:cNvCxnSpPr>
            <p:nvPr/>
          </p:nvCxnSpPr>
          <p:spPr>
            <a:xfrm flipV="1" rot="10800000">
              <a:off x="7271640" y="3978000"/>
              <a:ext cx="1080" cy="504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9" name=""/>
            <p:cNvSpPr/>
            <p:nvPr/>
          </p:nvSpPr>
          <p:spPr>
            <a:xfrm>
              <a:off x="7240680" y="410040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0" name=""/>
            <p:cNvCxnSpPr>
              <a:stCxn id="1089" idx="4"/>
              <a:endCxn id="1095" idx="0"/>
            </p:cNvCxnSpPr>
            <p:nvPr/>
          </p:nvCxnSpPr>
          <p:spPr>
            <a:xfrm flipV="1" rot="10800000">
              <a:off x="7271640" y="4986000"/>
              <a:ext cx="1080" cy="648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1" name=""/>
            <p:cNvSpPr/>
            <p:nvPr/>
          </p:nvSpPr>
          <p:spPr>
            <a:xfrm>
              <a:off x="7313400" y="51800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537400" y="11476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3" name=""/>
            <p:cNvCxnSpPr>
              <a:stCxn id="1095" idx="2"/>
              <a:endCxn id="1097" idx="6"/>
            </p:cNvCxnSpPr>
            <p:nvPr/>
          </p:nvCxnSpPr>
          <p:spPr>
            <a:xfrm flipH="1">
              <a:off x="6013080" y="5886360"/>
              <a:ext cx="100728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4" name=""/>
            <p:cNvCxnSpPr>
              <a:stCxn id="1095" idx="1"/>
              <a:endCxn id="1096" idx="6"/>
            </p:cNvCxnSpPr>
            <p:nvPr/>
          </p:nvCxnSpPr>
          <p:spPr>
            <a:xfrm flipH="1" flipV="1">
              <a:off x="6012720" y="4733280"/>
              <a:ext cx="1081800" cy="97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5" name=""/>
            <p:cNvSpPr/>
            <p:nvPr/>
          </p:nvSpPr>
          <p:spPr>
            <a:xfrm rot="19638000">
              <a:off x="6373440" y="5849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13440" y="518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7" name=""/>
            <p:cNvCxnSpPr>
              <a:stCxn id="1094" idx="0"/>
              <a:endCxn id="1096" idx="5"/>
            </p:cNvCxnSpPr>
            <p:nvPr/>
          </p:nvCxnSpPr>
          <p:spPr>
            <a:xfrm flipH="1" flipV="1">
              <a:off x="5938200" y="4911120"/>
              <a:ext cx="47052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8" name=""/>
            <p:cNvSpPr/>
            <p:nvPr/>
          </p:nvSpPr>
          <p:spPr>
            <a:xfrm>
              <a:off x="6805440" y="5324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9" name=""/>
            <p:cNvCxnSpPr>
              <a:stCxn id="1097" idx="7"/>
              <a:endCxn id="1094" idx="4"/>
            </p:cNvCxnSpPr>
            <p:nvPr/>
          </p:nvCxnSpPr>
          <p:spPr>
            <a:xfrm flipV="1">
              <a:off x="5938560" y="5994000"/>
              <a:ext cx="47052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0" name=""/>
            <p:cNvSpPr/>
            <p:nvPr/>
          </p:nvSpPr>
          <p:spPr>
            <a:xfrm>
              <a:off x="5779440" y="598968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1" name=""/>
            <p:cNvCxnSpPr>
              <a:stCxn id="1084" idx="6"/>
              <a:endCxn id="1092" idx="2"/>
            </p:cNvCxnSpPr>
            <p:nvPr/>
          </p:nvCxnSpPr>
          <p:spPr>
            <a:xfrm>
              <a:off x="7524720" y="1780920"/>
              <a:ext cx="72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2" name=""/>
            <p:cNvSpPr/>
            <p:nvPr/>
          </p:nvSpPr>
          <p:spPr>
            <a:xfrm>
              <a:off x="7650000" y="1527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3" name=""/>
            <p:cNvCxnSpPr>
              <a:stCxn id="1092" idx="0"/>
              <a:endCxn id="1093" idx="4"/>
            </p:cNvCxnSpPr>
            <p:nvPr/>
          </p:nvCxnSpPr>
          <p:spPr>
            <a:xfrm flipV="1">
              <a:off x="8496000" y="1025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4" name=""/>
            <p:cNvCxnSpPr>
              <a:stCxn id="1085" idx="7"/>
              <a:endCxn id="1093" idx="1"/>
            </p:cNvCxnSpPr>
            <p:nvPr/>
          </p:nvCxnSpPr>
          <p:spPr>
            <a:xfrm>
              <a:off x="6657480" y="595080"/>
              <a:ext cx="1661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5" name=""/>
            <p:cNvCxnSpPr>
              <a:stCxn id="1093" idx="2"/>
              <a:endCxn id="1085" idx="6"/>
            </p:cNvCxnSpPr>
            <p:nvPr/>
          </p:nvCxnSpPr>
          <p:spPr>
            <a:xfrm flipH="1">
              <a:off x="6732360" y="772920"/>
              <a:ext cx="151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6" name=""/>
            <p:cNvSpPr/>
            <p:nvPr/>
          </p:nvSpPr>
          <p:spPr>
            <a:xfrm>
              <a:off x="7100640" y="311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26160" y="716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8" name=""/>
            <p:cNvCxnSpPr>
              <a:stCxn id="1092" idx="1"/>
              <a:endCxn id="1085" idx="6"/>
            </p:cNvCxnSpPr>
            <p:nvPr/>
          </p:nvCxnSpPr>
          <p:spPr>
            <a:xfrm flipH="1" flipV="1">
              <a:off x="6732000" y="772920"/>
              <a:ext cx="158652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9" name=""/>
            <p:cNvCxnSpPr>
              <a:stCxn id="1084" idx="0"/>
              <a:endCxn id="1085" idx="5"/>
            </p:cNvCxnSpPr>
            <p:nvPr/>
          </p:nvCxnSpPr>
          <p:spPr>
            <a:xfrm flipH="1" flipV="1">
              <a:off x="6657120" y="950400"/>
              <a:ext cx="61524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0" name=""/>
            <p:cNvSpPr/>
            <p:nvPr/>
          </p:nvSpPr>
          <p:spPr>
            <a:xfrm>
              <a:off x="6860520" y="102384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1" name=""/>
            <p:cNvCxnSpPr>
              <a:stCxn id="1085" idx="4"/>
              <a:endCxn id="1084" idx="1"/>
            </p:cNvCxnSpPr>
            <p:nvPr/>
          </p:nvCxnSpPr>
          <p:spPr>
            <a:xfrm>
              <a:off x="6479640" y="1025280"/>
              <a:ext cx="61524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2" name=""/>
            <p:cNvSpPr/>
            <p:nvPr/>
          </p:nvSpPr>
          <p:spPr>
            <a:xfrm>
              <a:off x="6376680" y="12193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3" name=""/>
            <p:cNvCxnSpPr>
              <a:stCxn id="1086" idx="0"/>
              <a:endCxn id="1085" idx="3"/>
            </p:cNvCxnSpPr>
            <p:nvPr/>
          </p:nvCxnSpPr>
          <p:spPr>
            <a:xfrm flipV="1">
              <a:off x="5761080" y="950400"/>
              <a:ext cx="54216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4" name=""/>
            <p:cNvCxnSpPr>
              <a:stCxn id="1085" idx="4"/>
              <a:endCxn id="1086" idx="7"/>
            </p:cNvCxnSpPr>
            <p:nvPr/>
          </p:nvCxnSpPr>
          <p:spPr>
            <a:xfrm flipH="1">
              <a:off x="5938200" y="1025280"/>
              <a:ext cx="541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5" name=""/>
            <p:cNvSpPr/>
            <p:nvPr/>
          </p:nvSpPr>
          <p:spPr>
            <a:xfrm>
              <a:off x="6229080" y="107640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581800" y="1003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229080" y="13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8" name=""/>
            <p:cNvCxnSpPr>
              <a:stCxn id="1086" idx="7"/>
              <a:endCxn id="1084" idx="1"/>
            </p:cNvCxnSpPr>
            <p:nvPr/>
          </p:nvCxnSpPr>
          <p:spPr>
            <a:xfrm>
              <a:off x="5938920" y="160308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9" name=""/>
            <p:cNvSpPr/>
            <p:nvPr/>
          </p:nvSpPr>
          <p:spPr>
            <a:xfrm>
              <a:off x="7794720" y="1023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0" name=""/>
            <p:cNvCxnSpPr>
              <a:stCxn id="1084" idx="2"/>
              <a:endCxn id="1086" idx="6"/>
            </p:cNvCxnSpPr>
            <p:nvPr/>
          </p:nvCxnSpPr>
          <p:spPr>
            <a:xfrm flipH="1">
              <a:off x="6013080" y="1780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1" name=""/>
            <p:cNvSpPr/>
            <p:nvPr/>
          </p:nvSpPr>
          <p:spPr>
            <a:xfrm>
              <a:off x="6208920" y="174312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2" name=""/>
            <p:cNvCxnSpPr>
              <a:stCxn id="1087" idx="1"/>
              <a:endCxn id="1086" idx="6"/>
            </p:cNvCxnSpPr>
            <p:nvPr/>
          </p:nvCxnSpPr>
          <p:spPr>
            <a:xfrm flipH="1" flipV="1">
              <a:off x="6012720" y="178092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3" name=""/>
            <p:cNvSpPr/>
            <p:nvPr/>
          </p:nvSpPr>
          <p:spPr>
            <a:xfrm>
              <a:off x="6443280" y="1960560"/>
              <a:ext cx="38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89440" y="2033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589440" y="2536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6" name=""/>
            <p:cNvCxnSpPr>
              <a:stCxn id="1091" idx="6"/>
              <a:endCxn id="1087" idx="2"/>
            </p:cNvCxnSpPr>
            <p:nvPr/>
          </p:nvCxnSpPr>
          <p:spPr>
            <a:xfrm>
              <a:off x="6013440" y="2788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7" name=""/>
            <p:cNvSpPr/>
            <p:nvPr/>
          </p:nvSpPr>
          <p:spPr>
            <a:xfrm>
              <a:off x="6376320" y="342900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C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8" name=""/>
            <p:cNvCxnSpPr/>
            <p:nvPr/>
          </p:nvCxnSpPr>
          <p:spPr>
            <a:xfrm>
              <a:off x="6011640" y="3688920"/>
              <a:ext cx="100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9" name=""/>
            <p:cNvSpPr/>
            <p:nvPr/>
          </p:nvSpPr>
          <p:spPr>
            <a:xfrm>
              <a:off x="6373440" y="4265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0" name=""/>
            <p:cNvCxnSpPr>
              <a:stCxn id="1096" idx="7"/>
              <a:endCxn id="1089" idx="1"/>
            </p:cNvCxnSpPr>
            <p:nvPr/>
          </p:nvCxnSpPr>
          <p:spPr>
            <a:xfrm>
              <a:off x="5938920" y="455580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1" name=""/>
            <p:cNvCxnSpPr>
              <a:stCxn id="1089" idx="2"/>
              <a:endCxn id="1096" idx="6"/>
            </p:cNvCxnSpPr>
            <p:nvPr/>
          </p:nvCxnSpPr>
          <p:spPr>
            <a:xfrm flipH="1">
              <a:off x="6013080" y="473364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2" name=""/>
            <p:cNvSpPr/>
            <p:nvPr/>
          </p:nvSpPr>
          <p:spPr>
            <a:xfrm>
              <a:off x="6373800" y="4697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3" name=""/>
            <p:cNvCxnSpPr>
              <a:stCxn id="1089" idx="1"/>
              <a:endCxn id="1090" idx="6"/>
            </p:cNvCxnSpPr>
            <p:nvPr/>
          </p:nvCxnSpPr>
          <p:spPr>
            <a:xfrm flipH="1" flipV="1">
              <a:off x="6012720" y="372564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4" name=""/>
            <p:cNvSpPr/>
            <p:nvPr/>
          </p:nvSpPr>
          <p:spPr>
            <a:xfrm>
              <a:off x="6229080" y="3760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5" name=""/>
            <p:cNvCxnSpPr>
              <a:stCxn id="1089" idx="1"/>
              <a:endCxn id="1091" idx="5"/>
            </p:cNvCxnSpPr>
            <p:nvPr/>
          </p:nvCxnSpPr>
          <p:spPr>
            <a:xfrm flipH="1" flipV="1">
              <a:off x="5938560" y="2966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6" name=""/>
            <p:cNvSpPr/>
            <p:nvPr/>
          </p:nvSpPr>
          <p:spPr>
            <a:xfrm>
              <a:off x="6661080" y="3833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7" name=""/>
            <p:cNvCxnSpPr>
              <a:stCxn id="1088" idx="1"/>
              <a:endCxn id="1091" idx="6"/>
            </p:cNvCxnSpPr>
            <p:nvPr/>
          </p:nvCxnSpPr>
          <p:spPr>
            <a:xfrm flipH="1" flipV="1">
              <a:off x="6012720" y="2788920"/>
              <a:ext cx="1081800" cy="75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8" name=""/>
            <p:cNvSpPr/>
            <p:nvPr/>
          </p:nvSpPr>
          <p:spPr>
            <a:xfrm>
              <a:off x="6518160" y="296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61080" y="2825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0" name=""/>
            <p:cNvCxnSpPr>
              <a:stCxn id="1088" idx="1"/>
              <a:endCxn id="1086" idx="5"/>
            </p:cNvCxnSpPr>
            <p:nvPr/>
          </p:nvCxnSpPr>
          <p:spPr>
            <a:xfrm flipH="1" flipV="1">
              <a:off x="5938560" y="1958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1" name=""/>
            <p:cNvCxnSpPr/>
            <p:nvPr/>
          </p:nvCxnSpPr>
          <p:spPr>
            <a:xfrm>
              <a:off x="5989320" y="1882800"/>
              <a:ext cx="1037160" cy="81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2" name=""/>
            <p:cNvSpPr/>
            <p:nvPr/>
          </p:nvSpPr>
          <p:spPr>
            <a:xfrm>
              <a:off x="6379920" y="232092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3" name=""/>
            <p:cNvCxnSpPr>
              <a:stCxn id="1091" idx="0"/>
              <a:endCxn id="1086" idx="4"/>
            </p:cNvCxnSpPr>
            <p:nvPr/>
          </p:nvCxnSpPr>
          <p:spPr>
            <a:xfrm flipV="1">
              <a:off x="5760720" y="2033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4" name=""/>
            <p:cNvCxnSpPr>
              <a:stCxn id="1090" idx="0"/>
              <a:endCxn id="1091" idx="4"/>
            </p:cNvCxnSpPr>
            <p:nvPr/>
          </p:nvCxnSpPr>
          <p:spPr>
            <a:xfrm flipV="1">
              <a:off x="5760720" y="304092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5" name=""/>
            <p:cNvCxnSpPr>
              <a:stCxn id="1096" idx="0"/>
              <a:endCxn id="1090" idx="4"/>
            </p:cNvCxnSpPr>
            <p:nvPr/>
          </p:nvCxnSpPr>
          <p:spPr>
            <a:xfrm flipV="1">
              <a:off x="5760720" y="397800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6" name=""/>
            <p:cNvCxnSpPr>
              <a:stCxn id="1097" idx="0"/>
              <a:endCxn id="1096" idx="4"/>
            </p:cNvCxnSpPr>
            <p:nvPr/>
          </p:nvCxnSpPr>
          <p:spPr>
            <a:xfrm flipV="1">
              <a:off x="5760720" y="4985640"/>
              <a:ext cx="1080" cy="13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7" name=""/>
            <p:cNvCxnSpPr>
              <a:stCxn id="1090" idx="3"/>
              <a:endCxn id="1096" idx="1"/>
            </p:cNvCxnSpPr>
            <p:nvPr/>
          </p:nvCxnSpPr>
          <p:spPr>
            <a:xfrm>
              <a:off x="5582880" y="3903840"/>
              <a:ext cx="1080" cy="65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>
              <a:off x="5013360" y="4049640"/>
              <a:ext cx="64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509800" y="5560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26160" y="3976560"/>
              <a:ext cx="30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725800" y="31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25800" y="2176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"/>
            <p:cNvCxnSpPr>
              <a:stCxn id="1097" idx="6"/>
              <a:endCxn id="1095" idx="4"/>
            </p:cNvCxnSpPr>
            <p:nvPr/>
          </p:nvCxnSpPr>
          <p:spPr>
            <a:xfrm flipV="1">
              <a:off x="6013080" y="6138000"/>
              <a:ext cx="1259640" cy="46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4" name=""/>
            <p:cNvSpPr/>
            <p:nvPr/>
          </p:nvSpPr>
          <p:spPr>
            <a:xfrm>
              <a:off x="6813000" y="641016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5" name=""/>
            <p:cNvCxnSpPr>
              <a:stCxn id="1095" idx="0"/>
              <a:endCxn id="1090" idx="5"/>
            </p:cNvCxnSpPr>
            <p:nvPr/>
          </p:nvCxnSpPr>
          <p:spPr>
            <a:xfrm flipH="1" flipV="1">
              <a:off x="5938560" y="3903480"/>
              <a:ext cx="1334160" cy="17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6" name=""/>
            <p:cNvSpPr/>
            <p:nvPr/>
          </p:nvSpPr>
          <p:spPr>
            <a:xfrm>
              <a:off x="6786360" y="48402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7" name=""/>
            <p:cNvCxnSpPr>
              <a:stCxn id="1084" idx="6"/>
              <a:endCxn id="1088" idx="6"/>
            </p:cNvCxnSpPr>
            <p:nvPr/>
          </p:nvCxnSpPr>
          <p:spPr>
            <a:xfrm>
              <a:off x="7524720" y="1781280"/>
              <a:ext cx="2160" cy="1945440"/>
            </a:xfrm>
            <a:prstGeom prst="curvedConnector5">
              <a:avLst>
                <a:gd name="adj1" fmla="val 44000000"/>
                <a:gd name="adj2" fmla="val 49990"/>
                <a:gd name="adj3" fmla="val 44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>
              <a:off x="8177040" y="28256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9" name=""/>
            <p:cNvCxnSpPr>
              <a:stCxn id="1087" idx="6"/>
              <a:endCxn id="1092" idx="4"/>
            </p:cNvCxnSpPr>
            <p:nvPr/>
          </p:nvCxnSpPr>
          <p:spPr>
            <a:xfrm flipV="1">
              <a:off x="7524360" y="2032920"/>
              <a:ext cx="972360" cy="756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0" name=""/>
            <p:cNvSpPr/>
            <p:nvPr/>
          </p:nvSpPr>
          <p:spPr>
            <a:xfrm>
              <a:off x="8244360" y="224964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1" name=""/>
            <p:cNvCxnSpPr>
              <a:stCxn id="1097" idx="2"/>
              <a:endCxn id="1090" idx="2"/>
            </p:cNvCxnSpPr>
            <p:nvPr/>
          </p:nvCxnSpPr>
          <p:spPr>
            <a:xfrm flipH="1" rot="10800000">
              <a:off x="5508360" y="3725280"/>
              <a:ext cx="2160" cy="2880360"/>
            </a:xfrm>
            <a:prstGeom prst="curvedConnector5">
              <a:avLst>
                <a:gd name="adj1" fmla="val -41600000"/>
                <a:gd name="adj2" fmla="val 50000"/>
                <a:gd name="adj3" fmla="val -41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>
              <a:off x="4292280" y="4913280"/>
              <a:ext cx="61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"/>
            <p:cNvCxnSpPr>
              <a:stCxn id="1090" idx="2"/>
              <a:endCxn id="1085" idx="2"/>
            </p:cNvCxnSpPr>
            <p:nvPr/>
          </p:nvCxnSpPr>
          <p:spPr>
            <a:xfrm flipH="1" rot="10800000">
              <a:off x="5507640" y="772560"/>
              <a:ext cx="719640" cy="2953440"/>
            </a:xfrm>
            <a:prstGeom prst="curvedConnector5">
              <a:avLst>
                <a:gd name="adj1" fmla="val -137937"/>
                <a:gd name="adj2" fmla="val 49993"/>
                <a:gd name="adj3" fmla="val -137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4" name=""/>
            <p:cNvCxnSpPr>
              <a:stCxn id="1091" idx="2"/>
              <a:endCxn id="1085" idx="2"/>
            </p:cNvCxnSpPr>
            <p:nvPr/>
          </p:nvCxnSpPr>
          <p:spPr>
            <a:xfrm flipH="1" rot="10800000">
              <a:off x="5507640" y="772560"/>
              <a:ext cx="719640" cy="2016720"/>
            </a:xfrm>
            <a:prstGeom prst="curvedConnector5">
              <a:avLst>
                <a:gd name="adj1" fmla="val -31781"/>
                <a:gd name="adj2" fmla="val 49991"/>
                <a:gd name="adj3" fmla="val -317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5" name=""/>
            <p:cNvSpPr/>
            <p:nvPr/>
          </p:nvSpPr>
          <p:spPr>
            <a:xfrm>
              <a:off x="4265640" y="2103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33800" y="17445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7" name=""/>
            <p:cNvCxnSpPr>
              <a:stCxn id="1091" idx="2"/>
              <a:endCxn id="1093" idx="0"/>
            </p:cNvCxnSpPr>
            <p:nvPr/>
          </p:nvCxnSpPr>
          <p:spPr>
            <a:xfrm flipH="1" rot="10800000">
              <a:off x="5507640" y="519840"/>
              <a:ext cx="2988360" cy="2269440"/>
            </a:xfrm>
            <a:prstGeom prst="curvedConnector5">
              <a:avLst>
                <a:gd name="adj1" fmla="val -28156"/>
                <a:gd name="adj2" fmla="val 58115"/>
                <a:gd name="adj3" fmla="val -281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8" name=""/>
            <p:cNvSpPr/>
            <p:nvPr/>
          </p:nvSpPr>
          <p:spPr>
            <a:xfrm>
              <a:off x="4933800" y="333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9" name=""/>
            <p:cNvCxnSpPr>
              <a:stCxn id="1089" idx="6"/>
              <a:endCxn id="1093" idx="7"/>
            </p:cNvCxnSpPr>
            <p:nvPr/>
          </p:nvCxnSpPr>
          <p:spPr>
            <a:xfrm flipV="1">
              <a:off x="7524360" y="595080"/>
              <a:ext cx="1150200" cy="4139280"/>
            </a:xfrm>
            <a:prstGeom prst="curvedConnector5">
              <a:avLst>
                <a:gd name="adj1" fmla="val 132028"/>
                <a:gd name="adj2" fmla="val 51030"/>
                <a:gd name="adj3" fmla="val 1320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0" name=""/>
            <p:cNvCxnSpPr>
              <a:stCxn id="1088" idx="5"/>
              <a:endCxn id="1093" idx="6"/>
            </p:cNvCxnSpPr>
            <p:nvPr/>
          </p:nvCxnSpPr>
          <p:spPr>
            <a:xfrm flipH="1" flipV="1" rot="5400000">
              <a:off x="6532920" y="1688760"/>
              <a:ext cx="3131280" cy="1299240"/>
            </a:xfrm>
            <a:prstGeom prst="curvedConnector5">
              <a:avLst>
                <a:gd name="adj1" fmla="val -8669"/>
                <a:gd name="adj2" fmla="val 52605"/>
                <a:gd name="adj3" fmla="val -86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1" name=""/>
            <p:cNvSpPr/>
            <p:nvPr/>
          </p:nvSpPr>
          <p:spPr>
            <a:xfrm>
              <a:off x="8721720" y="2637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05800" y="3933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4284720" y="0"/>
            <a:ext cx="485928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392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k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and de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=10 K, n=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locked in 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e + c.r → He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+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e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CO → C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O + 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V fully abso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ads v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ads become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reactions with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CO → CH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+ HCO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760720" y="1025280"/>
            <a:ext cx="1511640" cy="5402520"/>
            <a:chOff x="5760720" y="1025280"/>
            <a:chExt cx="1511640" cy="5402520"/>
          </a:xfrm>
        </p:grpSpPr>
        <p:cxnSp>
          <p:nvCxnSpPr>
            <p:cNvPr id="1196" name=""/>
            <p:cNvCxnSpPr/>
            <p:nvPr/>
          </p:nvCxnSpPr>
          <p:spPr>
            <a:xfrm flipH="1">
              <a:off x="5938200" y="1025280"/>
              <a:ext cx="541800" cy="5785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7" name=""/>
            <p:cNvCxnSpPr/>
            <p:nvPr/>
          </p:nvCxnSpPr>
          <p:spPr>
            <a:xfrm>
              <a:off x="5938920" y="1603080"/>
              <a:ext cx="115632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8" name=""/>
            <p:cNvCxnSpPr/>
            <p:nvPr/>
          </p:nvCxnSpPr>
          <p:spPr>
            <a:xfrm>
              <a:off x="6013440" y="2788920"/>
              <a:ext cx="100728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9" name=""/>
            <p:cNvCxnSpPr/>
            <p:nvPr/>
          </p:nvCxnSpPr>
          <p:spPr>
            <a:xfrm>
              <a:off x="6011640" y="3688920"/>
              <a:ext cx="100692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00" name=""/>
            <p:cNvCxnSpPr/>
            <p:nvPr/>
          </p:nvCxnSpPr>
          <p:spPr>
            <a:xfrm flipV="1">
              <a:off x="5760720" y="2033280"/>
              <a:ext cx="1080" cy="5040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01" name=""/>
            <p:cNvCxnSpPr/>
            <p:nvPr/>
          </p:nvCxnSpPr>
          <p:spPr>
            <a:xfrm flipV="1">
              <a:off x="5760720" y="3040920"/>
              <a:ext cx="1080" cy="4323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02" name=""/>
            <p:cNvCxnSpPr/>
            <p:nvPr/>
          </p:nvCxnSpPr>
          <p:spPr>
            <a:xfrm flipV="1">
              <a:off x="5760720" y="4985640"/>
              <a:ext cx="1080" cy="1367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03" name=""/>
            <p:cNvCxnSpPr/>
            <p:nvPr/>
          </p:nvCxnSpPr>
          <p:spPr>
            <a:xfrm flipH="1" flipV="1">
              <a:off x="5938560" y="3903480"/>
              <a:ext cx="1334160" cy="17308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04" name=""/>
            <p:cNvCxnSpPr/>
            <p:nvPr/>
          </p:nvCxnSpPr>
          <p:spPr>
            <a:xfrm flipV="1">
              <a:off x="5760720" y="3978000"/>
              <a:ext cx="1080" cy="5040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05" name=""/>
            <p:cNvCxnSpPr/>
            <p:nvPr/>
          </p:nvCxnSpPr>
          <p:spPr>
            <a:xfrm flipV="1">
              <a:off x="5938560" y="5994000"/>
              <a:ext cx="470520" cy="434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1206" name=""/>
          <p:cNvCxnSpPr/>
          <p:nvPr/>
        </p:nvCxnSpPr>
        <p:spPr>
          <a:xfrm flipH="1">
            <a:off x="5938200" y="1025280"/>
            <a:ext cx="541800" cy="578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7" name=""/>
          <p:cNvCxnSpPr/>
          <p:nvPr/>
        </p:nvCxnSpPr>
        <p:spPr>
          <a:xfrm>
            <a:off x="5938920" y="1603080"/>
            <a:ext cx="11563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8" name=""/>
          <p:cNvCxnSpPr/>
          <p:nvPr/>
        </p:nvCxnSpPr>
        <p:spPr>
          <a:xfrm>
            <a:off x="6013440" y="2788920"/>
            <a:ext cx="10072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9" name=""/>
          <p:cNvCxnSpPr/>
          <p:nvPr/>
        </p:nvCxnSpPr>
        <p:spPr>
          <a:xfrm>
            <a:off x="6011640" y="3688920"/>
            <a:ext cx="10069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0" name=""/>
          <p:cNvCxnSpPr/>
          <p:nvPr/>
        </p:nvCxnSpPr>
        <p:spPr>
          <a:xfrm flipV="1">
            <a:off x="5760720" y="2033280"/>
            <a:ext cx="1080" cy="504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1" name=""/>
          <p:cNvCxnSpPr/>
          <p:nvPr/>
        </p:nvCxnSpPr>
        <p:spPr>
          <a:xfrm flipV="1">
            <a:off x="5760720" y="3040920"/>
            <a:ext cx="1080" cy="4323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2" name=""/>
          <p:cNvCxnSpPr/>
          <p:nvPr/>
        </p:nvCxnSpPr>
        <p:spPr>
          <a:xfrm flipV="1">
            <a:off x="5760720" y="4985640"/>
            <a:ext cx="1080" cy="136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3" name=""/>
          <p:cNvCxnSpPr/>
          <p:nvPr/>
        </p:nvCxnSpPr>
        <p:spPr>
          <a:xfrm flipH="1" flipV="1">
            <a:off x="5938560" y="3903480"/>
            <a:ext cx="1334160" cy="1730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4" name=""/>
          <p:cNvCxnSpPr/>
          <p:nvPr/>
        </p:nvCxnSpPr>
        <p:spPr>
          <a:xfrm flipV="1">
            <a:off x="5760720" y="3978000"/>
            <a:ext cx="1080" cy="504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5" name=""/>
          <p:cNvCxnSpPr/>
          <p:nvPr/>
        </p:nvCxnSpPr>
        <p:spPr>
          <a:xfrm flipV="1">
            <a:off x="5938560" y="5994000"/>
            <a:ext cx="470520" cy="434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216" name=""/>
          <p:cNvGrpSpPr/>
          <p:nvPr/>
        </p:nvGrpSpPr>
        <p:grpSpPr>
          <a:xfrm>
            <a:off x="5938200" y="764640"/>
            <a:ext cx="2305800" cy="4935600"/>
            <a:chOff x="5938200" y="764640"/>
            <a:chExt cx="2305800" cy="4935600"/>
          </a:xfrm>
        </p:grpSpPr>
        <p:cxnSp>
          <p:nvCxnSpPr>
            <p:cNvPr id="1217" name=""/>
            <p:cNvCxnSpPr/>
            <p:nvPr/>
          </p:nvCxnSpPr>
          <p:spPr>
            <a:xfrm flipH="1" flipV="1">
              <a:off x="6012720" y="4725360"/>
              <a:ext cx="1081800" cy="97524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18" name=""/>
            <p:cNvCxnSpPr/>
            <p:nvPr/>
          </p:nvCxnSpPr>
          <p:spPr>
            <a:xfrm flipH="1" flipV="1">
              <a:off x="5938200" y="4903200"/>
              <a:ext cx="470520" cy="57852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19" name=""/>
            <p:cNvCxnSpPr/>
            <p:nvPr/>
          </p:nvCxnSpPr>
          <p:spPr>
            <a:xfrm flipH="1">
              <a:off x="6732360" y="764640"/>
              <a:ext cx="1512000" cy="108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20" name=""/>
            <p:cNvCxnSpPr/>
            <p:nvPr/>
          </p:nvCxnSpPr>
          <p:spPr>
            <a:xfrm flipH="1" flipV="1">
              <a:off x="6012720" y="1773000"/>
              <a:ext cx="1081800" cy="83088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21" name=""/>
            <p:cNvCxnSpPr/>
            <p:nvPr/>
          </p:nvCxnSpPr>
          <p:spPr>
            <a:xfrm flipH="1" flipV="1">
              <a:off x="6012720" y="3717720"/>
              <a:ext cx="1081800" cy="83088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22" name=""/>
            <p:cNvCxnSpPr/>
            <p:nvPr/>
          </p:nvCxnSpPr>
          <p:spPr>
            <a:xfrm flipH="1" flipV="1">
              <a:off x="5938560" y="2958840"/>
              <a:ext cx="1156320" cy="158976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23" name=""/>
            <p:cNvCxnSpPr/>
            <p:nvPr/>
          </p:nvCxnSpPr>
          <p:spPr>
            <a:xfrm flipH="1" flipV="1">
              <a:off x="6012720" y="2781000"/>
              <a:ext cx="1081800" cy="75960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24" name=""/>
            <p:cNvCxnSpPr/>
            <p:nvPr/>
          </p:nvCxnSpPr>
          <p:spPr>
            <a:xfrm flipH="1" flipV="1">
              <a:off x="5938560" y="1950840"/>
              <a:ext cx="1156320" cy="158976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225" name=""/>
            <p:cNvCxnSpPr/>
            <p:nvPr/>
          </p:nvCxnSpPr>
          <p:spPr>
            <a:xfrm flipH="1" flipV="1">
              <a:off x="5938560" y="3894840"/>
              <a:ext cx="1334160" cy="1731240"/>
            </a:xfrm>
            <a:prstGeom prst="straightConnector1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</p:cxnSp>
      </p:grpSp>
      <p:sp>
        <p:nvSpPr>
          <p:cNvPr id="1226" name=""/>
          <p:cNvSpPr/>
          <p:nvPr/>
        </p:nvSpPr>
        <p:spPr>
          <a:xfrm>
            <a:off x="6227640" y="520560"/>
            <a:ext cx="505080" cy="5050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6376680" y="1025280"/>
            <a:ext cx="1148040" cy="1008360"/>
            <a:chOff x="6376680" y="1025280"/>
            <a:chExt cx="1148040" cy="1008360"/>
          </a:xfrm>
        </p:grpSpPr>
        <p:sp>
          <p:nvSpPr>
            <p:cNvPr id="1228" name=""/>
            <p:cNvSpPr/>
            <p:nvPr/>
          </p:nvSpPr>
          <p:spPr>
            <a:xfrm>
              <a:off x="7020000" y="15289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9" name=""/>
            <p:cNvCxnSpPr>
              <a:endCxn id="1228" idx="1"/>
            </p:cNvCxnSpPr>
            <p:nvPr/>
          </p:nvCxnSpPr>
          <p:spPr>
            <a:xfrm>
              <a:off x="6479640" y="1025280"/>
              <a:ext cx="615240" cy="57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30" name=""/>
            <p:cNvSpPr/>
            <p:nvPr/>
          </p:nvSpPr>
          <p:spPr>
            <a:xfrm>
              <a:off x="6376680" y="12193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5508720" y="5634000"/>
            <a:ext cx="2016000" cy="1224000"/>
            <a:chOff x="5508720" y="5634000"/>
            <a:chExt cx="2016000" cy="1224000"/>
          </a:xfrm>
        </p:grpSpPr>
        <p:sp>
          <p:nvSpPr>
            <p:cNvPr id="1232" name=""/>
            <p:cNvSpPr/>
            <p:nvPr/>
          </p:nvSpPr>
          <p:spPr>
            <a:xfrm>
              <a:off x="7020000" y="563400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08720" y="6353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4" name=""/>
            <p:cNvCxnSpPr>
              <a:stCxn id="1232" idx="2"/>
              <a:endCxn id="1233" idx="6"/>
            </p:cNvCxnSpPr>
            <p:nvPr/>
          </p:nvCxnSpPr>
          <p:spPr>
            <a:xfrm flipH="1">
              <a:off x="6013080" y="5886360"/>
              <a:ext cx="1007280" cy="720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35" name=""/>
            <p:cNvSpPr/>
            <p:nvPr/>
          </p:nvSpPr>
          <p:spPr>
            <a:xfrm rot="19638000">
              <a:off x="6373440" y="5849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265640" y="151920"/>
            <a:ext cx="4776840" cy="6706080"/>
            <a:chOff x="4265640" y="151920"/>
            <a:chExt cx="4776840" cy="6706080"/>
          </a:xfrm>
        </p:grpSpPr>
        <p:sp>
          <p:nvSpPr>
            <p:cNvPr id="1237" name=""/>
            <p:cNvSpPr/>
            <p:nvPr/>
          </p:nvSpPr>
          <p:spPr>
            <a:xfrm>
              <a:off x="7020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27640" y="520560"/>
              <a:ext cx="50508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0872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02000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2000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2000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508720" y="347328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08720" y="2536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44000" y="152892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244000" y="520560"/>
              <a:ext cx="504720" cy="50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56360" y="5489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20000" y="563400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DE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08720" y="448164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08720" y="6353280"/>
              <a:ext cx="5047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1" name=""/>
            <p:cNvCxnSpPr>
              <a:stCxn id="1240" idx="1"/>
              <a:endCxn id="1237" idx="3"/>
            </p:cNvCxnSpPr>
            <p:nvPr/>
          </p:nvCxnSpPr>
          <p:spPr>
            <a:xfrm flipV="1">
              <a:off x="709416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2" name=""/>
            <p:cNvCxnSpPr>
              <a:stCxn id="1237" idx="5"/>
              <a:endCxn id="1240" idx="7"/>
            </p:cNvCxnSpPr>
            <p:nvPr/>
          </p:nvCxnSpPr>
          <p:spPr>
            <a:xfrm flipV="1" rot="10800000">
              <a:off x="7449480" y="1958760"/>
              <a:ext cx="1080" cy="653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3" name=""/>
            <p:cNvSpPr/>
            <p:nvPr/>
          </p:nvSpPr>
          <p:spPr>
            <a:xfrm>
              <a:off x="6856560" y="2052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78880" y="21337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90080" y="2011320"/>
              <a:ext cx="642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6" name=""/>
            <p:cNvCxnSpPr>
              <a:stCxn id="1241" idx="1"/>
              <a:endCxn id="1240" idx="3"/>
            </p:cNvCxnSpPr>
            <p:nvPr/>
          </p:nvCxnSpPr>
          <p:spPr>
            <a:xfrm flipV="1">
              <a:off x="709416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7" name=""/>
            <p:cNvCxnSpPr>
              <a:stCxn id="1240" idx="5"/>
              <a:endCxn id="1241" idx="7"/>
            </p:cNvCxnSpPr>
            <p:nvPr/>
          </p:nvCxnSpPr>
          <p:spPr>
            <a:xfrm flipV="1" rot="10800000">
              <a:off x="7449480" y="2967120"/>
              <a:ext cx="1080" cy="58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8" name=""/>
            <p:cNvSpPr/>
            <p:nvPr/>
          </p:nvSpPr>
          <p:spPr>
            <a:xfrm>
              <a:off x="6856560" y="29894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878880" y="304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456320" y="2948040"/>
              <a:ext cx="366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1" name=""/>
            <p:cNvCxnSpPr>
              <a:stCxn id="1241" idx="4"/>
              <a:endCxn id="1242" idx="0"/>
            </p:cNvCxnSpPr>
            <p:nvPr/>
          </p:nvCxnSpPr>
          <p:spPr>
            <a:xfrm flipV="1" rot="10800000">
              <a:off x="7271640" y="3978000"/>
              <a:ext cx="1080" cy="504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2" name=""/>
            <p:cNvSpPr/>
            <p:nvPr/>
          </p:nvSpPr>
          <p:spPr>
            <a:xfrm>
              <a:off x="7240680" y="410040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42" idx="4"/>
              <a:endCxn id="1248" idx="0"/>
            </p:cNvCxnSpPr>
            <p:nvPr/>
          </p:nvCxnSpPr>
          <p:spPr>
            <a:xfrm flipV="1" rot="10800000">
              <a:off x="7271640" y="4986000"/>
              <a:ext cx="1080" cy="648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4" name=""/>
            <p:cNvSpPr/>
            <p:nvPr/>
          </p:nvSpPr>
          <p:spPr>
            <a:xfrm>
              <a:off x="7313400" y="51800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537400" y="11476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6" name=""/>
            <p:cNvCxnSpPr>
              <a:stCxn id="1248" idx="2"/>
              <a:endCxn id="1250" idx="6"/>
            </p:cNvCxnSpPr>
            <p:nvPr/>
          </p:nvCxnSpPr>
          <p:spPr>
            <a:xfrm flipH="1">
              <a:off x="6013080" y="5886360"/>
              <a:ext cx="100728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7" name=""/>
            <p:cNvCxnSpPr>
              <a:stCxn id="1248" idx="1"/>
              <a:endCxn id="1249" idx="6"/>
            </p:cNvCxnSpPr>
            <p:nvPr/>
          </p:nvCxnSpPr>
          <p:spPr>
            <a:xfrm flipH="1" flipV="1">
              <a:off x="6012720" y="4733280"/>
              <a:ext cx="1081800" cy="97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8" name=""/>
            <p:cNvSpPr/>
            <p:nvPr/>
          </p:nvSpPr>
          <p:spPr>
            <a:xfrm rot="19638000">
              <a:off x="6373440" y="5849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13440" y="5180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47" idx="0"/>
              <a:endCxn id="1249" idx="5"/>
            </p:cNvCxnSpPr>
            <p:nvPr/>
          </p:nvCxnSpPr>
          <p:spPr>
            <a:xfrm flipH="1" flipV="1">
              <a:off x="5938200" y="4911120"/>
              <a:ext cx="47052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1" name=""/>
            <p:cNvSpPr/>
            <p:nvPr/>
          </p:nvSpPr>
          <p:spPr>
            <a:xfrm>
              <a:off x="6805440" y="5324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2" name=""/>
            <p:cNvCxnSpPr>
              <a:stCxn id="1250" idx="7"/>
              <a:endCxn id="1247" idx="4"/>
            </p:cNvCxnSpPr>
            <p:nvPr/>
          </p:nvCxnSpPr>
          <p:spPr>
            <a:xfrm flipV="1">
              <a:off x="5938560" y="5994000"/>
              <a:ext cx="47052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3" name=""/>
            <p:cNvSpPr/>
            <p:nvPr/>
          </p:nvSpPr>
          <p:spPr>
            <a:xfrm>
              <a:off x="5779440" y="598968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4" name=""/>
            <p:cNvCxnSpPr>
              <a:stCxn id="1237" idx="6"/>
              <a:endCxn id="1245" idx="2"/>
            </p:cNvCxnSpPr>
            <p:nvPr/>
          </p:nvCxnSpPr>
          <p:spPr>
            <a:xfrm>
              <a:off x="7524720" y="1780920"/>
              <a:ext cx="72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5" name=""/>
            <p:cNvSpPr/>
            <p:nvPr/>
          </p:nvSpPr>
          <p:spPr>
            <a:xfrm>
              <a:off x="7650000" y="1527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6" name=""/>
            <p:cNvCxnSpPr>
              <a:stCxn id="1245" idx="0"/>
              <a:endCxn id="1246" idx="4"/>
            </p:cNvCxnSpPr>
            <p:nvPr/>
          </p:nvCxnSpPr>
          <p:spPr>
            <a:xfrm flipV="1">
              <a:off x="8496000" y="1025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7" name=""/>
            <p:cNvCxnSpPr>
              <a:stCxn id="1238" idx="7"/>
              <a:endCxn id="1246" idx="1"/>
            </p:cNvCxnSpPr>
            <p:nvPr/>
          </p:nvCxnSpPr>
          <p:spPr>
            <a:xfrm>
              <a:off x="6657480" y="595080"/>
              <a:ext cx="1661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8" name=""/>
            <p:cNvCxnSpPr>
              <a:stCxn id="1246" idx="2"/>
              <a:endCxn id="1238" idx="6"/>
            </p:cNvCxnSpPr>
            <p:nvPr/>
          </p:nvCxnSpPr>
          <p:spPr>
            <a:xfrm flipH="1">
              <a:off x="6732360" y="772920"/>
              <a:ext cx="151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9" name=""/>
            <p:cNvSpPr/>
            <p:nvPr/>
          </p:nvSpPr>
          <p:spPr>
            <a:xfrm>
              <a:off x="7100640" y="311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6160" y="716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1" name=""/>
            <p:cNvCxnSpPr>
              <a:stCxn id="1245" idx="1"/>
              <a:endCxn id="1238" idx="6"/>
            </p:cNvCxnSpPr>
            <p:nvPr/>
          </p:nvCxnSpPr>
          <p:spPr>
            <a:xfrm flipH="1" flipV="1">
              <a:off x="6732000" y="772920"/>
              <a:ext cx="158652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2" name=""/>
            <p:cNvCxnSpPr>
              <a:stCxn id="1237" idx="0"/>
              <a:endCxn id="1238" idx="5"/>
            </p:cNvCxnSpPr>
            <p:nvPr/>
          </p:nvCxnSpPr>
          <p:spPr>
            <a:xfrm flipH="1" flipV="1">
              <a:off x="6657120" y="950400"/>
              <a:ext cx="61524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3" name=""/>
            <p:cNvSpPr/>
            <p:nvPr/>
          </p:nvSpPr>
          <p:spPr>
            <a:xfrm>
              <a:off x="6860520" y="102384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4" name=""/>
            <p:cNvCxnSpPr>
              <a:stCxn id="1238" idx="4"/>
              <a:endCxn id="1237" idx="1"/>
            </p:cNvCxnSpPr>
            <p:nvPr/>
          </p:nvCxnSpPr>
          <p:spPr>
            <a:xfrm>
              <a:off x="6479640" y="1025280"/>
              <a:ext cx="61524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5" name=""/>
            <p:cNvSpPr/>
            <p:nvPr/>
          </p:nvSpPr>
          <p:spPr>
            <a:xfrm>
              <a:off x="6376680" y="12193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6" name=""/>
            <p:cNvCxnSpPr>
              <a:stCxn id="1239" idx="0"/>
              <a:endCxn id="1238" idx="3"/>
            </p:cNvCxnSpPr>
            <p:nvPr/>
          </p:nvCxnSpPr>
          <p:spPr>
            <a:xfrm flipV="1">
              <a:off x="5761080" y="950400"/>
              <a:ext cx="54216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7" name=""/>
            <p:cNvCxnSpPr>
              <a:stCxn id="1238" idx="4"/>
              <a:endCxn id="1239" idx="7"/>
            </p:cNvCxnSpPr>
            <p:nvPr/>
          </p:nvCxnSpPr>
          <p:spPr>
            <a:xfrm flipH="1">
              <a:off x="5938200" y="1025280"/>
              <a:ext cx="541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8" name=""/>
            <p:cNvSpPr/>
            <p:nvPr/>
          </p:nvSpPr>
          <p:spPr>
            <a:xfrm>
              <a:off x="6229080" y="107640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581800" y="1003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29080" y="13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1" name=""/>
            <p:cNvCxnSpPr>
              <a:stCxn id="1239" idx="7"/>
              <a:endCxn id="1237" idx="1"/>
            </p:cNvCxnSpPr>
            <p:nvPr/>
          </p:nvCxnSpPr>
          <p:spPr>
            <a:xfrm>
              <a:off x="5938920" y="160308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2" name=""/>
            <p:cNvSpPr/>
            <p:nvPr/>
          </p:nvSpPr>
          <p:spPr>
            <a:xfrm>
              <a:off x="7794720" y="1023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3" name=""/>
            <p:cNvCxnSpPr>
              <a:stCxn id="1237" idx="2"/>
              <a:endCxn id="1239" idx="6"/>
            </p:cNvCxnSpPr>
            <p:nvPr/>
          </p:nvCxnSpPr>
          <p:spPr>
            <a:xfrm flipH="1">
              <a:off x="6013080" y="1780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4" name=""/>
            <p:cNvSpPr/>
            <p:nvPr/>
          </p:nvSpPr>
          <p:spPr>
            <a:xfrm>
              <a:off x="6208920" y="174312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,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"/>
            <p:cNvCxnSpPr>
              <a:stCxn id="1240" idx="1"/>
              <a:endCxn id="1239" idx="6"/>
            </p:cNvCxnSpPr>
            <p:nvPr/>
          </p:nvCxnSpPr>
          <p:spPr>
            <a:xfrm flipH="1" flipV="1">
              <a:off x="6012720" y="178092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6" name=""/>
            <p:cNvSpPr/>
            <p:nvPr/>
          </p:nvSpPr>
          <p:spPr>
            <a:xfrm>
              <a:off x="6443280" y="1960560"/>
              <a:ext cx="38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89440" y="2033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89440" y="2536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9" name=""/>
            <p:cNvCxnSpPr>
              <a:stCxn id="1244" idx="6"/>
              <a:endCxn id="1240" idx="2"/>
            </p:cNvCxnSpPr>
            <p:nvPr/>
          </p:nvCxnSpPr>
          <p:spPr>
            <a:xfrm>
              <a:off x="6013440" y="278892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0" name=""/>
            <p:cNvSpPr/>
            <p:nvPr/>
          </p:nvSpPr>
          <p:spPr>
            <a:xfrm>
              <a:off x="6376320" y="342900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C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1" name=""/>
            <p:cNvCxnSpPr/>
            <p:nvPr/>
          </p:nvCxnSpPr>
          <p:spPr>
            <a:xfrm>
              <a:off x="6011640" y="3688920"/>
              <a:ext cx="1006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2" name=""/>
            <p:cNvSpPr/>
            <p:nvPr/>
          </p:nvSpPr>
          <p:spPr>
            <a:xfrm>
              <a:off x="6373440" y="42656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3" name=""/>
            <p:cNvCxnSpPr>
              <a:stCxn id="1249" idx="7"/>
              <a:endCxn id="1242" idx="1"/>
            </p:cNvCxnSpPr>
            <p:nvPr/>
          </p:nvCxnSpPr>
          <p:spPr>
            <a:xfrm>
              <a:off x="5938920" y="4555800"/>
              <a:ext cx="115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4" name=""/>
            <p:cNvCxnSpPr>
              <a:stCxn id="1242" idx="2"/>
              <a:endCxn id="1249" idx="6"/>
            </p:cNvCxnSpPr>
            <p:nvPr/>
          </p:nvCxnSpPr>
          <p:spPr>
            <a:xfrm flipH="1">
              <a:off x="6013080" y="4733640"/>
              <a:ext cx="100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5" name=""/>
            <p:cNvSpPr/>
            <p:nvPr/>
          </p:nvSpPr>
          <p:spPr>
            <a:xfrm>
              <a:off x="6373800" y="4697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6" name=""/>
            <p:cNvCxnSpPr>
              <a:stCxn id="1242" idx="1"/>
              <a:endCxn id="1243" idx="6"/>
            </p:cNvCxnSpPr>
            <p:nvPr/>
          </p:nvCxnSpPr>
          <p:spPr>
            <a:xfrm flipH="1" flipV="1">
              <a:off x="6012720" y="3725640"/>
              <a:ext cx="1081800" cy="8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7" name=""/>
            <p:cNvSpPr/>
            <p:nvPr/>
          </p:nvSpPr>
          <p:spPr>
            <a:xfrm>
              <a:off x="6229080" y="3760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8" name=""/>
            <p:cNvCxnSpPr>
              <a:stCxn id="1242" idx="1"/>
              <a:endCxn id="1244" idx="5"/>
            </p:cNvCxnSpPr>
            <p:nvPr/>
          </p:nvCxnSpPr>
          <p:spPr>
            <a:xfrm flipH="1" flipV="1">
              <a:off x="5938560" y="2966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9" name=""/>
            <p:cNvSpPr/>
            <p:nvPr/>
          </p:nvSpPr>
          <p:spPr>
            <a:xfrm>
              <a:off x="6661080" y="3833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"/>
            <p:cNvCxnSpPr>
              <a:stCxn id="1241" idx="1"/>
              <a:endCxn id="1244" idx="6"/>
            </p:cNvCxnSpPr>
            <p:nvPr/>
          </p:nvCxnSpPr>
          <p:spPr>
            <a:xfrm flipH="1" flipV="1">
              <a:off x="6012720" y="2788920"/>
              <a:ext cx="1081800" cy="75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1" name=""/>
            <p:cNvSpPr/>
            <p:nvPr/>
          </p:nvSpPr>
          <p:spPr>
            <a:xfrm>
              <a:off x="6518160" y="296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661080" y="2825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3" name=""/>
            <p:cNvCxnSpPr>
              <a:stCxn id="1241" idx="1"/>
              <a:endCxn id="1239" idx="5"/>
            </p:cNvCxnSpPr>
            <p:nvPr/>
          </p:nvCxnSpPr>
          <p:spPr>
            <a:xfrm flipH="1" flipV="1">
              <a:off x="5938560" y="1958760"/>
              <a:ext cx="1156320" cy="15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4" name=""/>
            <p:cNvCxnSpPr/>
            <p:nvPr/>
          </p:nvCxnSpPr>
          <p:spPr>
            <a:xfrm>
              <a:off x="5989320" y="1882800"/>
              <a:ext cx="1037160" cy="81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5" name=""/>
            <p:cNvSpPr/>
            <p:nvPr/>
          </p:nvSpPr>
          <p:spPr>
            <a:xfrm>
              <a:off x="6379920" y="232092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6" name=""/>
            <p:cNvCxnSpPr>
              <a:stCxn id="1244" idx="0"/>
              <a:endCxn id="1239" idx="4"/>
            </p:cNvCxnSpPr>
            <p:nvPr/>
          </p:nvCxnSpPr>
          <p:spPr>
            <a:xfrm flipV="1">
              <a:off x="5760720" y="203328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7" name=""/>
            <p:cNvCxnSpPr>
              <a:stCxn id="1243" idx="0"/>
              <a:endCxn id="1244" idx="4"/>
            </p:cNvCxnSpPr>
            <p:nvPr/>
          </p:nvCxnSpPr>
          <p:spPr>
            <a:xfrm flipV="1">
              <a:off x="5760720" y="304092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8" name=""/>
            <p:cNvCxnSpPr>
              <a:stCxn id="1249" idx="0"/>
              <a:endCxn id="1243" idx="4"/>
            </p:cNvCxnSpPr>
            <p:nvPr/>
          </p:nvCxnSpPr>
          <p:spPr>
            <a:xfrm flipV="1">
              <a:off x="5760720" y="3978000"/>
              <a:ext cx="1080" cy="50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9" name=""/>
            <p:cNvCxnSpPr>
              <a:stCxn id="1250" idx="0"/>
              <a:endCxn id="1249" idx="4"/>
            </p:cNvCxnSpPr>
            <p:nvPr/>
          </p:nvCxnSpPr>
          <p:spPr>
            <a:xfrm flipV="1">
              <a:off x="5760720" y="4985640"/>
              <a:ext cx="1080" cy="13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0" name=""/>
            <p:cNvCxnSpPr>
              <a:stCxn id="1243" idx="3"/>
              <a:endCxn id="1249" idx="1"/>
            </p:cNvCxnSpPr>
            <p:nvPr/>
          </p:nvCxnSpPr>
          <p:spPr>
            <a:xfrm>
              <a:off x="5582880" y="3903840"/>
              <a:ext cx="1080" cy="65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1" name=""/>
            <p:cNvSpPr/>
            <p:nvPr/>
          </p:nvSpPr>
          <p:spPr>
            <a:xfrm>
              <a:off x="5013360" y="4049640"/>
              <a:ext cx="64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509800" y="5560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26160" y="3976560"/>
              <a:ext cx="30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25800" y="311292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25800" y="2176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6" name=""/>
            <p:cNvCxnSpPr>
              <a:stCxn id="1250" idx="6"/>
              <a:endCxn id="1248" idx="4"/>
            </p:cNvCxnSpPr>
            <p:nvPr/>
          </p:nvCxnSpPr>
          <p:spPr>
            <a:xfrm flipV="1">
              <a:off x="6013080" y="6138000"/>
              <a:ext cx="1259640" cy="467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7" name=""/>
            <p:cNvSpPr/>
            <p:nvPr/>
          </p:nvSpPr>
          <p:spPr>
            <a:xfrm>
              <a:off x="6813000" y="641016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8" name=""/>
            <p:cNvCxnSpPr>
              <a:stCxn id="1248" idx="0"/>
              <a:endCxn id="1243" idx="5"/>
            </p:cNvCxnSpPr>
            <p:nvPr/>
          </p:nvCxnSpPr>
          <p:spPr>
            <a:xfrm flipH="1" flipV="1">
              <a:off x="5938560" y="3903480"/>
              <a:ext cx="1334160" cy="173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9" name=""/>
            <p:cNvSpPr/>
            <p:nvPr/>
          </p:nvSpPr>
          <p:spPr>
            <a:xfrm>
              <a:off x="6786360" y="48402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0" name=""/>
            <p:cNvCxnSpPr>
              <a:stCxn id="1237" idx="6"/>
              <a:endCxn id="1241" idx="6"/>
            </p:cNvCxnSpPr>
            <p:nvPr/>
          </p:nvCxnSpPr>
          <p:spPr>
            <a:xfrm>
              <a:off x="7524720" y="1781280"/>
              <a:ext cx="2160" cy="1945440"/>
            </a:xfrm>
            <a:prstGeom prst="curvedConnector5">
              <a:avLst>
                <a:gd name="adj1" fmla="val 44000000"/>
                <a:gd name="adj2" fmla="val 49990"/>
                <a:gd name="adj3" fmla="val 44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1" name=""/>
            <p:cNvSpPr/>
            <p:nvPr/>
          </p:nvSpPr>
          <p:spPr>
            <a:xfrm>
              <a:off x="8177040" y="28256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2" name=""/>
            <p:cNvCxnSpPr>
              <a:stCxn id="1240" idx="6"/>
              <a:endCxn id="1245" idx="4"/>
            </p:cNvCxnSpPr>
            <p:nvPr/>
          </p:nvCxnSpPr>
          <p:spPr>
            <a:xfrm flipV="1">
              <a:off x="7524360" y="2032920"/>
              <a:ext cx="972360" cy="756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3" name=""/>
            <p:cNvSpPr/>
            <p:nvPr/>
          </p:nvSpPr>
          <p:spPr>
            <a:xfrm>
              <a:off x="8244360" y="224964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4" name=""/>
            <p:cNvCxnSpPr>
              <a:stCxn id="1250" idx="2"/>
              <a:endCxn id="1243" idx="2"/>
            </p:cNvCxnSpPr>
            <p:nvPr/>
          </p:nvCxnSpPr>
          <p:spPr>
            <a:xfrm flipH="1" rot="10800000">
              <a:off x="5508360" y="3725280"/>
              <a:ext cx="2160" cy="2880360"/>
            </a:xfrm>
            <a:prstGeom prst="curvedConnector5">
              <a:avLst>
                <a:gd name="adj1" fmla="val -41600000"/>
                <a:gd name="adj2" fmla="val 50000"/>
                <a:gd name="adj3" fmla="val -41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5" name=""/>
            <p:cNvSpPr/>
            <p:nvPr/>
          </p:nvSpPr>
          <p:spPr>
            <a:xfrm>
              <a:off x="4292280" y="4913280"/>
              <a:ext cx="61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6" name=""/>
            <p:cNvCxnSpPr>
              <a:stCxn id="1243" idx="2"/>
              <a:endCxn id="1238" idx="2"/>
            </p:cNvCxnSpPr>
            <p:nvPr/>
          </p:nvCxnSpPr>
          <p:spPr>
            <a:xfrm flipH="1" rot="10800000">
              <a:off x="5507640" y="772560"/>
              <a:ext cx="719640" cy="2953440"/>
            </a:xfrm>
            <a:prstGeom prst="curvedConnector5">
              <a:avLst>
                <a:gd name="adj1" fmla="val -137937"/>
                <a:gd name="adj2" fmla="val 49993"/>
                <a:gd name="adj3" fmla="val -137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7" name=""/>
            <p:cNvCxnSpPr>
              <a:stCxn id="1244" idx="2"/>
              <a:endCxn id="1238" idx="2"/>
            </p:cNvCxnSpPr>
            <p:nvPr/>
          </p:nvCxnSpPr>
          <p:spPr>
            <a:xfrm flipH="1" rot="10800000">
              <a:off x="5507640" y="772560"/>
              <a:ext cx="719640" cy="2016720"/>
            </a:xfrm>
            <a:prstGeom prst="curvedConnector5">
              <a:avLst>
                <a:gd name="adj1" fmla="val -31781"/>
                <a:gd name="adj2" fmla="val 49991"/>
                <a:gd name="adj3" fmla="val -317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8" name=""/>
            <p:cNvSpPr/>
            <p:nvPr/>
          </p:nvSpPr>
          <p:spPr>
            <a:xfrm>
              <a:off x="4265640" y="2103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933800" y="17445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0" name=""/>
            <p:cNvCxnSpPr>
              <a:stCxn id="1244" idx="2"/>
              <a:endCxn id="1246" idx="0"/>
            </p:cNvCxnSpPr>
            <p:nvPr/>
          </p:nvCxnSpPr>
          <p:spPr>
            <a:xfrm flipH="1" rot="10800000">
              <a:off x="5507640" y="519840"/>
              <a:ext cx="2988360" cy="2269440"/>
            </a:xfrm>
            <a:prstGeom prst="curvedConnector5">
              <a:avLst>
                <a:gd name="adj1" fmla="val -28156"/>
                <a:gd name="adj2" fmla="val 58115"/>
                <a:gd name="adj3" fmla="val -281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1" name=""/>
            <p:cNvSpPr/>
            <p:nvPr/>
          </p:nvSpPr>
          <p:spPr>
            <a:xfrm>
              <a:off x="4933800" y="333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2" name=""/>
            <p:cNvCxnSpPr>
              <a:stCxn id="1242" idx="6"/>
              <a:endCxn id="1246" idx="7"/>
            </p:cNvCxnSpPr>
            <p:nvPr/>
          </p:nvCxnSpPr>
          <p:spPr>
            <a:xfrm flipV="1">
              <a:off x="7524360" y="595080"/>
              <a:ext cx="1150200" cy="4139280"/>
            </a:xfrm>
            <a:prstGeom prst="curvedConnector5">
              <a:avLst>
                <a:gd name="adj1" fmla="val 132028"/>
                <a:gd name="adj2" fmla="val 51030"/>
                <a:gd name="adj3" fmla="val 1320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3" name=""/>
            <p:cNvCxnSpPr>
              <a:stCxn id="1241" idx="5"/>
              <a:endCxn id="1246" idx="6"/>
            </p:cNvCxnSpPr>
            <p:nvPr/>
          </p:nvCxnSpPr>
          <p:spPr>
            <a:xfrm flipH="1" flipV="1" rot="5400000">
              <a:off x="6532920" y="1688760"/>
              <a:ext cx="3131280" cy="1299240"/>
            </a:xfrm>
            <a:prstGeom prst="curvedConnector5">
              <a:avLst>
                <a:gd name="adj1" fmla="val -8669"/>
                <a:gd name="adj2" fmla="val 52605"/>
                <a:gd name="adj3" fmla="val -86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4" name=""/>
            <p:cNvSpPr/>
            <p:nvPr/>
          </p:nvSpPr>
          <p:spPr>
            <a:xfrm>
              <a:off x="8721720" y="2637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605800" y="393372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4284720" y="0"/>
            <a:ext cx="485928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‘simple’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factor 100 too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ation not fu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0" y="253692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5013360" y="1147680"/>
            <a:ext cx="3890880" cy="4368600"/>
            <a:chOff x="5013360" y="1147680"/>
            <a:chExt cx="3890880" cy="4368600"/>
          </a:xfrm>
        </p:grpSpPr>
        <p:sp>
          <p:nvSpPr>
            <p:cNvPr id="1350" name=""/>
            <p:cNvSpPr/>
            <p:nvPr/>
          </p:nvSpPr>
          <p:spPr>
            <a:xfrm>
              <a:off x="7390080" y="2011320"/>
              <a:ext cx="642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ffcc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56320" y="2948040"/>
              <a:ext cx="366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240680" y="410040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313400" y="51800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537400" y="11476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13360" y="4049640"/>
              <a:ext cx="64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,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r>
                <a:rPr b="0" lang="de-DE" sz="1400" spc="-1" strike="noStrike" baseline="30000">
                  <a:solidFill>
                    <a:srgbClr val="ffcc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177040" y="282564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0" lang="de-DE" sz="1400" spc="-1" strike="noStrike" baseline="-25000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reactions, that are impossible or unlikely in the gas phase, might occur on grain surfaces → dus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for d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inction (dark clou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dening of star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arization (aligned, non-spherical gr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letion of some elements from the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emission at far infrare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stellar grains in primitive meteorites and interplanetary dust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absorption and emiss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179280" y="611280"/>
            <a:ext cx="878544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5367240" cy="53676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7074720" y="57531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GC 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121080" cy="2594160"/>
          </a:xfrm>
          <a:prstGeom prst="rect">
            <a:avLst/>
          </a:prstGeom>
          <a:ln w="0">
            <a:noFill/>
          </a:ln>
        </p:spPr>
      </p:pic>
      <p:pic>
        <p:nvPicPr>
          <p:cNvPr id="1365" name="" descr=""/>
          <p:cNvPicPr/>
          <p:nvPr/>
        </p:nvPicPr>
        <p:blipFill>
          <a:blip r:embed="rId2"/>
          <a:stretch/>
        </p:blipFill>
        <p:spPr>
          <a:xfrm>
            <a:off x="324000" y="3940200"/>
            <a:ext cx="6116400" cy="2592360"/>
          </a:xfrm>
          <a:prstGeom prst="rect">
            <a:avLst/>
          </a:prstGeom>
          <a:ln w="0">
            <a:noFill/>
          </a:ln>
        </p:spPr>
      </p:pic>
      <p:pic>
        <p:nvPicPr>
          <p:cNvPr id="1366" name="" descr=""/>
          <p:cNvPicPr/>
          <p:nvPr/>
        </p:nvPicPr>
        <p:blipFill>
          <a:blip r:embed="rId3"/>
          <a:stretch/>
        </p:blipFill>
        <p:spPr>
          <a:xfrm>
            <a:off x="6600960" y="2852640"/>
            <a:ext cx="2543040" cy="181944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6715080" y="503244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s Gree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218280" cy="545652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6927840" y="2584440"/>
            <a:ext cx="196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ic field orientation in the Galaxy M51 (Berkhuijsen et al. 197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228600" y="57150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al depletions as a function of condensation temperature (the temperature at which 50% of element condenses out in solid 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1"/>
          <a:stretch/>
        </p:blipFill>
        <p:spPr>
          <a:xfrm>
            <a:off x="1054080" y="457200"/>
            <a:ext cx="70344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84872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547640" y="5229360"/>
            <a:ext cx="20894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icate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645080" y="5003640"/>
            <a:ext cx="3095640" cy="1387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is dust compose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phous sil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depletion: most of Si, Mg, Fe, and 20% of O is contained in silicates (e.g. MgFeSi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liv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 of 9.7µm Si_O stretch and 18 µm O_Si_O bending modes (Gillel &amp;Forrest, ’79)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sorpt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cal extinction + polariza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ypical size ~ 0.1 µm, elon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length dependence of extinc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ze distribution, e.g. n(a)~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3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0Å-2500Å   (M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148360" y="5229360"/>
            <a:ext cx="20890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icate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082720" y="48895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7667640" y="5229360"/>
            <a:ext cx="43344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150880" y="595008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               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675640" cy="472608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7453440" y="47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7080" cy="54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ine sil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, relatively shar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atures found in spectra of old (post) AGB stars, PNe, and young  stars with circumstellar disks, but not in ISM! (photons and ions tend to destroy lattice 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 can be identified with Mg-rich cyrstalline silicates, e.g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teri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Si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t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922640" cy="6308640"/>
          </a:xfrm>
          <a:prstGeom prst="rect">
            <a:avLst/>
          </a:prstGeom>
          <a:ln w="0">
            <a:noFill/>
          </a:ln>
        </p:spPr>
      </p:pic>
      <p:sp>
        <p:nvSpPr>
          <p:cNvPr id="1388" name=""/>
          <p:cNvSpPr/>
          <p:nvPr/>
        </p:nvSpPr>
        <p:spPr>
          <a:xfrm>
            <a:off x="5727240" y="5950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ster et al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7861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684360" y="88920"/>
            <a:ext cx="4768560" cy="6769080"/>
          </a:xfrm>
          <a:prstGeom prst="rect">
            <a:avLst/>
          </a:prstGeom>
          <a:ln w="0">
            <a:noFill/>
          </a:ln>
        </p:spPr>
      </p:pic>
      <p:sp>
        <p:nvSpPr>
          <p:cNvPr id="1391" name=""/>
          <p:cNvSpPr/>
          <p:nvPr/>
        </p:nvSpPr>
        <p:spPr>
          <a:xfrm>
            <a:off x="1478160" y="1773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27240" y="5950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ster et al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ine sil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ion crystalline/anorphous ranges from few % to ~ 50%, vs.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w % in interstelar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ceou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75Å extinction bump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‘graphitic’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µm absorption diffuse IS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‘aliphatic’ C_H (aliphatic means chain-like, i.e. does not contain ring struc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extinction coefficient (opacity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~60% of C in soli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6553080" cy="574344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7435800" y="560880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ess&amp;Sav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482760" y="206280"/>
            <a:ext cx="8178480" cy="665172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 flipH="1" flipV="1">
            <a:off x="6324480" y="4723920"/>
            <a:ext cx="533520" cy="838440"/>
          </a:xfrm>
          <a:prstGeom prst="line">
            <a:avLst/>
          </a:prstGeom>
          <a:ln w="158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5638320" y="3429000"/>
            <a:ext cx="685800" cy="990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85800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0080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l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468360" y="1052640"/>
          <a:ext cx="5543640" cy="53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5543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6" name=""/>
          <p:cNvSpPr/>
          <p:nvPr/>
        </p:nvSpPr>
        <p:spPr>
          <a:xfrm>
            <a:off x="6567480" y="4313160"/>
            <a:ext cx="210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drogenated carbon g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nella et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84720" y="1268280"/>
            <a:ext cx="176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actic center source IRS 6E vs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es of discrete emission bands at 3.29 µm, 6.2µm, 7.7µm, 8.6µm, 11.3 µm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fit by Polycyclic Aromatic Hydrocarbons with 20-100  carbon atoms containing ~1% of carbon abund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692280" y="297000"/>
            <a:ext cx="77580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172080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27640" y="1225440"/>
            <a:ext cx="4459320" cy="5632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120 species foun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via rotational lines (perm. dipole moment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2643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1"/>
          <a:stretch/>
        </p:blipFill>
        <p:spPr>
          <a:xfrm>
            <a:off x="1676520" y="235080"/>
            <a:ext cx="5153040" cy="63878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6858000" y="1474920"/>
            <a:ext cx="1905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H spectral features in IR spectra of NGC7027 (PN) &amp; Orion Bar (P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 absorption features in dense, cold cloud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, 6.0 µ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7, 15.2µ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67 µ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 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3, 9.75 µ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68 µ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5616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44000" cy="449100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7453440" y="4724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 can be distinguished from gas-phas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 of rotational structur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ening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pe of ice bands provides constraints on environmental molecule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-rich ices: “polar” 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-poor ices: “apolar” 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Boogert &amp;Ehrenfreund, astro-ph/03111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1565280" y="762120"/>
            <a:ext cx="6012000" cy="436716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228600" y="5181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 of photons emitted by a star above 13.6eV increases rapidly with stellar temperature from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un), to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0V,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), 10% (B0V, 3.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), ~50% (O3V, 5.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2:58:39Z</dcterms:created>
  <dc:creator>Markus Röllig</dc:creator>
  <dc:description/>
  <dc:language>en-US</dc:language>
  <cp:lastModifiedBy>Markus Röllig</cp:lastModifiedBy>
  <dcterms:modified xsi:type="dcterms:W3CDTF">2007-05-21T08:45:55Z</dcterms:modified>
  <cp:revision>29</cp:revision>
  <dc:subject/>
  <dc:title>The physics of interstellar photon-dominated regions (PDRs)</dc:title>
</cp:coreProperties>
</file>